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82F9-40E5-4FB4-A876-5F6F08D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8494-FD29-4286-B31B-17B339F9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D01F-3C4E-4059-A2F6-EEC76D0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74C3E-C550-4AD1-80ED-EC184FA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CF442-3CDB-464A-9D2C-5031E9E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8AE8-035D-4182-9FCB-284F2F5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1623-27A5-497C-A016-AC8B6189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1DA37-8879-4B9C-8F82-0AA60F06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B0A4-9525-48B7-8D3B-7CCDA8C5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28DC-6AA2-4B14-BFEA-DE6B9D61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B4E5-F725-44FC-8888-C09F3E4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EB4AF-ACE4-488C-88E5-74EB3DC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9BE3-9626-4CB6-8D8E-A4893817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35C6-9F66-444C-B643-B7DA9D3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E088-D945-41CF-8003-8DFC293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515D3-D6A7-4AA2-8542-3471726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FCF9-D34D-44C2-BCCC-885B9D8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48E4-3829-45BD-9CB8-E2CD670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12403-EDF2-4A0B-AA44-507E50A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B7DE-38BB-40C8-8A1F-FC4080C6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FD92-0BBE-4AA6-98A5-34AACB1D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6CF6E-CC31-4241-8652-926E3F74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B27E-5D69-473B-992F-76E8AB3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D102-EA04-4ADB-A4EE-58EBAE9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929BA-2FFA-4EA7-8705-E95680F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E6CC-6201-4E50-888C-BB82E23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E988-D1CF-4B72-AA4E-F7825FE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762A8-8932-4A9B-BC3B-3A63045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1669-FB37-4865-90E9-42DD3E5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9FE4-29F8-4211-AE2C-E38A627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A8354-DF42-475F-BCF3-9F109FCC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6D64A-D8EE-4FDF-BA3E-4D3DCD9E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E02F3-DA6F-4124-936E-1AA672AB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410EB-18BD-4C3E-AF82-A4313EF2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25BC8-1A76-4CED-8BA7-9E1E3ABA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072E9-0609-4AD2-AC1C-72FC4824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510B4-FC42-4E4C-BBD8-021BE8D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1F991-1A5C-451D-97CF-E8C73196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C12B-8C71-4D81-AD91-4587736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01162-FB8E-41BE-B289-E7332DB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599FE-F190-4B26-BCCE-E73C0CC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1692-BDA8-471D-9BB2-8A183CC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63C18-EFF4-49EB-A678-638F2AA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40F82-1087-4A43-B6C4-DA99A584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705B6-BB3E-47A6-8143-70F7A9CC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F1B-D815-4AB1-A7BD-E16ABC04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273-D888-4B6F-AF6A-12DE13DA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300-B1FC-48DC-A336-6EBECE5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147-D6BA-49AB-910A-828DFBF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E7B-52C4-4CC4-8937-53765E30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ED0-4FD2-4423-A718-8BA8405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380-9D8C-4BB1-8DB8-829BA0F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C2E-2711-4702-AE40-E0FF442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339-801B-4121-A63E-CCDDD38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B5F-3D6A-46C1-93AD-9810AD9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909-DEDE-4687-94C0-92D0167B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830-3DDE-446E-8B95-95BFAA9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8FD-36D3-451A-931F-05C2B7F9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4124-2FBD-4E06-9627-D50957D3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ECE5-67F7-4F4A-8199-A4F115D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E48B-CFD1-4D80-BA57-1685CA59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D8BC-7668-49BF-A517-073264A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0B3D-4054-4FDE-82D4-6286215A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1CDE-3DCB-4636-9894-6A1C40F0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6BCA-6D43-4415-BD08-1B3C2DD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A49-80A1-4C48-B779-BC5BB96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C8B-572F-4CF3-840C-790C8D1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2AF-8028-4BF0-9926-438918F1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2E64-F572-4C7E-9BE4-79068B7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50C6-F999-4A86-A8A5-A711B82E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2863-EE72-4D69-AA50-087A682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6075-5156-4079-94CB-15BE760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DAF8-E85D-47E6-8F31-F1CD7DE2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5859-D816-4136-AA66-1D3F111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99DF-B55F-45DD-B38A-1D8A6FE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6B35-2331-489D-8313-A2C83CE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2B1E-0919-4734-AAEE-6B9216F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B2FB-6A0F-4AC1-8BCD-6333666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58FB-9847-432F-B035-7579B29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9F5B-9A5E-48D9-BB65-7EE84B83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BFD3-FC18-428F-A426-DC08CCB1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7AC5-A49B-406F-91CD-0A3B0CD0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2EEE-9F51-4049-9D91-61BAFA2D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D81E-E232-4683-B225-64E1D22F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8052-CC00-416B-A451-216B0BB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864C-D85B-45F3-B565-943D0BB3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3A56C-5267-40B5-9CCE-C737F97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67C0-6C54-496F-B8C0-5476F1F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8195-E204-4913-B546-995E561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BF08-54DF-4A14-8F24-31CC1C2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C5DE-18F5-4C3A-9BF8-483215F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7CF0-A9C9-49BD-9FA3-2B21B19D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3C8E-CE0B-44BB-A1B4-3B9B4D9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9065C-4046-4DD6-A503-F076628D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C70F4-EF53-4732-93D8-91B231B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F001-6990-47E5-B585-4DB3856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21E0-ED90-4B5F-B8B6-045775F4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4040-0C6D-4589-A00B-C3F28D75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B715-B508-4F6D-B6B0-A3D78C3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E79C-958D-447F-8012-C7681DD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1152-D488-4425-B4DA-F189B5A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BCAD-308D-4837-9CB5-93EB89A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E1E2-FF94-4767-8101-3FEB3D20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EB6D3-D956-4981-AD50-3DD25711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2FCC-245F-4780-ADEB-B020DF36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DE5B-1F04-40A9-B06E-7C4CE402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A0BC-82CC-4BAF-B0D9-8ABD19C0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F45FE-9815-4265-9D6E-13C25281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D2C8-212A-4C50-A2AB-2FA5CB46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5813-FF37-4DC0-81E8-07C48544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28D6-C8C6-43CD-A6D9-6904E61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4985F-3DA2-435A-96C7-A7473FB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5025-D471-44E3-9C73-276E3A3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A8E5-0619-48E5-98D7-99A0E8A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AF11-6FB6-418E-877A-119D6CA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807A-FB7A-4C32-A64A-57A27C7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290D4-351E-40D5-B8BD-26044A0A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1B41-B47F-4730-A621-16D37C9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5C0A-7BBB-4A45-9167-F17E697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1870-4138-4EC1-9E08-70B56E4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878-D227-4DB3-964A-3BD2C731FA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874-AF5A-4C95-96F1-DA0F527FFF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22B-2BD2-4EDD-B124-7EE7A4A490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6E10-4D2D-4951-BDBD-C0B52EAED9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CC2-3282-42F3-877B-FCE0864961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1028-7A17-41DA-9829-C2D90ECF0B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E31-2776-46F1-BF5D-0B0E8FEF87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1C1-C0F5-446E-B771-8DF4527A8F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0DF-6301-463B-AB2B-5DE018D95E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F7D8-1638-478A-B30E-5759C9EFB1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47400" y="836640"/>
            <a:ext cx="33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CITIZENS, STAKEHOLDERS,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AND ACHIEVE YOUR CITY’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ENERGY &amp; CLIM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OBJECTIV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508720" y="83664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PUBLIC SERV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AND MOR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THE ENGAGE CAMPAIGN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125000"/>
            <a:ext cx="5048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articipativ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communications initiative implemented by European cities…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hat commits all citizens and stakeholders to play their part in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 sustainable energy futur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NIQUE POSTERS TO MOBILIS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user friendly tool</a:t>
            </a:r>
            <a:r>
              <a:rPr b="1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o create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ailor-made posters</a:t>
            </a:r>
            <a:r>
              <a:rPr b="1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with personal concrete energy-related engagement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WHY JOIN THE ENGAGE CAMPAIGN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involv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your local authority as well as citizens and stakeholders in reducing their energy consumption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contribut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o the European Union “3x20” objective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prov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hat participative PR campaigns lead to real energy saving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take visible action  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via displaying attractive po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A 5-STEP PARTICIPATIVE COMMUNICATIONS APPROACH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C:\Users\laura.guerin\Desktop\Sans titre-3.png"/>
          <p:cNvPicPr/>
          <p:nvPr/>
        </p:nvPicPr>
        <p:blipFill>
          <a:blip r:embed="rId1"/>
          <a:stretch/>
        </p:blipFill>
        <p:spPr>
          <a:xfrm>
            <a:off x="2340000" y="1125360"/>
            <a:ext cx="55609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rcRect l="12204" t="18890" r="9889" b="13387"/>
          <a:stretch/>
        </p:blipFill>
        <p:spPr>
          <a:xfrm>
            <a:off x="-3240" y="112680"/>
            <a:ext cx="9118800" cy="63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rcRect l="12425" t="19031" r="10222" b="12129"/>
          <a:stretch/>
        </p:blipFill>
        <p:spPr>
          <a:xfrm>
            <a:off x="-1764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27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oin the European ENGAGE campaig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Laura Guérin</cp:lastModifiedBy>
  <dcterms:modified xsi:type="dcterms:W3CDTF">2013-03-06T10:08:17Z</dcterms:modified>
  <cp:revision>112</cp:revision>
  <dc:subject/>
  <dc:title>Présentation PowerPoint</dc:title>
</cp:coreProperties>
</file>