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C1C3-616E-4AC0-8F20-0BDF54B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83D6-BC7A-4139-AC2F-FC38866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DFD1-CD3F-4B5C-8A9F-C21A301A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6147-9E1D-484E-861C-4ABE64E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605D-8A57-4485-AE12-0843D5E1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1210-BF93-42FF-A098-1BE7034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64AD-96DF-4EA1-B394-1B313AB5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919E7-8B72-45D9-9695-547BBB82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DB69-0E74-4988-AB2E-9ECA010C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61389-ECAC-4AD5-8F4A-974CE1B8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25C2-25D7-4E9B-A6BC-A2452BA9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28BB-8093-4DEB-91E1-642D5C30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816D-DC87-43A3-8397-1274297D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598F-6690-40C8-8925-40F00A13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A7FC-4C27-4883-A494-98749E47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A5CC-CD75-45BB-8292-DBCA8C3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2C66-6D44-4F67-BA65-001309C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F1BA-D2EE-4052-B048-6275CAA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CAD4-9359-4171-AE0B-67A454F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284A-7A4E-4499-AC5B-64774496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2F0E0-8286-4B5A-BB8A-EE231972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CDDA3-1FBF-4DDB-8837-431F6DD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B0EA0-0365-4BF8-9337-CCA6EBE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E9C46-8057-43BE-99FC-E910BE6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698D5-A7BB-491F-940B-D7A1E90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13A3-7E50-4DA5-9E03-50AA2C2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142E-4C87-490D-BA05-FFFF9E0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64A1A-EF96-4A56-8A94-67823D7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A5437-FDE7-4DD4-8112-EA36420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60A9F-55B1-414B-A9AD-1B8E9EE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05156-333C-439A-BF79-0A34FDE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C6910-3656-4BBD-88E0-0625BCB3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62374-6F91-4143-8AB3-D1F42CA2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D3F5-9E75-4876-B1FE-B17731B7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810C-8399-44AC-AAA1-1EA04CF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387E-447C-49CB-90E0-1461FF1D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7F2D0-F0E0-4CFB-A954-DECF9AC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0D63-DE30-4F31-942D-BC572CDE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C6A46-CB12-4303-A60C-DE2658D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485F6-8FBE-40BA-B73D-F5E929D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1E1AF-3199-4DF6-B4F9-6148A11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4F391-41AF-4A55-A441-27AB51D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B1222-F6F1-46F3-A456-0A9F0EA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FD6EE-CA07-46B8-AA6E-8C76B7F1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61255-26E5-43FC-A857-C208BED8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523-64CC-4007-BA94-D4DAEE13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857-85AB-471F-9CC0-F4D47AB5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310-4019-42C0-B35D-9784095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AA3-FFE6-4D36-BF66-C5BA137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FF6-868C-4921-884E-4BB339C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423-28A2-43DB-B4DD-9BD7CF3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AC3-A1D1-422D-8340-D85A827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569-D4DE-4D62-A64D-FDAEBEA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E1E-EEF9-47A6-92F8-B20E024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4DC-5102-454F-BE3A-29C33BC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23E-58B9-4F23-A5CF-A873CFD5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030-A681-4AE3-9EA4-AD43A776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3AF1-6227-44BD-BDB1-454D04A8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CEB-24C6-4006-ADBD-B6E0B8A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61C-2DC9-4B0A-9C12-1AE3CAA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028-C8B6-453A-B948-72E52DB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CFA-A68C-48FD-852F-58023E7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D27-93B2-4003-9B2E-397F615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2AF8-F55E-433C-AB1E-1310997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3E95-4905-4C65-B5AB-848DFF8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BD9-7F52-4222-9C32-870B3FA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3888-CED2-4C1A-9C9C-84CD08C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5224-5B51-47F9-BF19-C4C1FE9A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5A7F-4A40-487F-BB7F-4C29D15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83A9-46B0-45D8-BE0E-2F562167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7AD7-D8D4-4A03-B176-F5B4DDB5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E37C-DD33-4D77-AC3A-0803D78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704A-6170-4DE3-BC95-B71ADD8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898D-ECE1-4801-A8E2-58B53E1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4680-3064-4D9D-A180-B4337162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AFB6-ACA0-4105-91A0-E27A249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B1401-5A26-4450-A64F-2B259E0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91D7-3A25-4B25-B931-3AFBEA5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44FF-521A-4885-88AD-85BFDE0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984A-1965-400C-BC58-4108D5D1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0FDC-C2A3-47E4-BF2B-BC442EC0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2659-FA5F-403A-808B-E0D66313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2A2F-EC0B-4D60-8C2D-901BD4D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CAA0-3C16-4CC4-A333-42FD9706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3FAB-3005-41B5-BAF5-BB4F0724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85F6-6609-4C71-B705-4F51C5BE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FB61B-0D2A-4417-8A80-AABF4F9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9C59-2F6D-4DAC-BDC2-C2C26E8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6F55-356A-457B-BC65-3AF19F9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E39E-E511-4DA2-AD7B-94164A5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F2F7-7E28-471A-ADF1-BC4AB70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DB38-29F7-4888-B5A8-1207DF8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C4E9-4B03-4A10-A965-9F34A701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2061-D358-4AF4-BA96-EEADCE8D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7022-2DDB-494A-8EA6-642DBF1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45F9-8915-47F5-9CFF-B5AD047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F5B6-3D43-49A8-A700-1438FECE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F2DF-7B02-4C2F-A9B8-AEA9864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D13F-1DA2-4F1F-82CC-7469DA4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54C0-1AD7-4128-9AE7-851E0362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9120-4AD7-40A1-9565-2630488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DDB3-B158-47AE-9C52-8EEDA18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24B5-045F-46BD-8A68-32EF1C99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FC7F-7693-4288-AD88-DBC6C48E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2869-A80B-4762-923C-1716D515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A6E31-DBC9-43E3-BDD9-5A63AE3A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AE51-2264-4D91-B031-AAD5669A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1CFD-1016-4135-B3BD-B7A05B55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087EA-25EC-42FF-9B9E-F57A5CD9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1D9E-B8EA-494D-85C6-6634261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699444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50DD-56E1-4B09-AC3A-6F4EB54E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2A4E-854D-4431-8257-79CE0EF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1D20-7363-43E7-A67B-F18B653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0A2B-2892-4F6F-9B73-6B7BD72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2248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45C8-30CA-4581-B4F3-42AAD69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22480"/>
            <a:ext cx="4015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3080E-E46C-413D-80A7-FA2361DC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22480"/>
            <a:ext cx="264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E48F-AC57-4FE8-B633-B598274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E12E2-6693-4A0F-962B-11905C71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12DF9-7219-4D59-AD8E-C0F836B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68D0-68DD-492C-99B6-0F0749C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3E0-0E33-4026-8B18-2CD1D0064B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4EFB-7BD9-4D69-94F8-D91E8DDA03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78D-BE7D-4123-95F2-67AAF8E394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X:\Intranet\ENGAGE\Action\WP5-Com &amp; Eur ENGAGE Campaign\5.1 Dvlpt graphic charter\Graphical guidelines\ENGAGE_Graphical_guidelines_files\ENGAGE_ppt_cover_update.jpg"/>
          <p:cNvPicPr/>
          <p:nvPr/>
        </p:nvPicPr>
        <p:blipFill>
          <a:blip r:embed="rId3"/>
          <a:stretch/>
        </p:blipFill>
        <p:spPr>
          <a:xfrm>
            <a:off x="-1440" y="0"/>
            <a:ext cx="9158040" cy="687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15F4-F53E-435B-B9A5-7D96781EDE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D54-D807-4628-BAF1-B80FBB5B5E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4B6F-F9DF-4AAC-B87F-EF52E59205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D11-ED8B-4BAE-B7C9-CE77520FA1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D9B5-F51D-40F3-803F-DC1B81568C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A0B6-54C8-4557-88C1-D9201DC7E7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X:\Intranet\ENGAGE\Action\WP5-Com &amp; Eur ENGAGE Campaign\5.1 Dvlpt graphic charter\Graphical guidelines\ENGAGE_Graphical_guidelines_files\ENGAGE_ppt_inside_upd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6994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A6FF-C9D5-442A-BB33-D2632AC29A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85680"/>
            <a:ext cx="2243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47400" y="836640"/>
            <a:ext cx="33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CITIZENS, STAKEHOLDERS, 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02" name="Espace réservé du contenu 9"/>
          <p:cNvSpPr/>
          <p:nvPr/>
        </p:nvSpPr>
        <p:spPr>
          <a:xfrm>
            <a:off x="755640" y="4797360"/>
            <a:ext cx="83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AND ACHIEVE YOUR CITY’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54061"/>
                </a:solidFill>
                <a:latin typeface="Arial"/>
              </a:rPr>
              <a:t>ENERGY &amp; CLIM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OBJECTIV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508720" y="83664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PUBLIC SERV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4061"/>
                </a:solidFill>
                <a:latin typeface="Arial"/>
              </a:rPr>
              <a:t>AND MOR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THE ENGAGE CAMPAIGN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125000"/>
            <a:ext cx="5048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articipativ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 communications initiative implemented by European cities…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…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hat commits all citizens and stakeholders to play their part in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 sustainable energy future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07" name="Picture 3" descr="X:\Intranet\ENGAGE\Action\WP3-ENGAGE local\3.2 Implementing the PR Campaign\Slide Show\Slide Show files\posters\Leicester.jpg"/>
          <p:cNvPicPr/>
          <p:nvPr/>
        </p:nvPicPr>
        <p:blipFill>
          <a:blip r:embed="rId5"/>
          <a:stretch/>
        </p:blipFill>
        <p:spPr>
          <a:xfrm>
            <a:off x="5505480" y="1125360"/>
            <a:ext cx="3638520" cy="514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NIQUE POSTERS TO MOBILIS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05264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user friendly tool</a:t>
            </a:r>
            <a:r>
              <a:rPr b="1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o create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ailor-made posters</a:t>
            </a:r>
            <a:r>
              <a:rPr b="1" lang="en-GB" sz="3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with personal concrete energy-related engagement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0" name="Picture 4" descr="X:\Intranet\ENGAGE\Action\WP3-ENGAGE local\3.2 Implementing the PR Campaign\Slide Show\Slide Show files\posters\Oeiras.jpg"/>
          <p:cNvPicPr/>
          <p:nvPr/>
        </p:nvPicPr>
        <p:blipFill>
          <a:blip r:embed="rId2"/>
          <a:stretch/>
        </p:blipFill>
        <p:spPr>
          <a:xfrm>
            <a:off x="3851280" y="2281320"/>
            <a:ext cx="5292720" cy="374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1" name="Picture 7" descr="X:\Intranet\ENGAGE\Action\WP3-ENGAGE local\3.2 Implementing the PR Campaign\Slide Show\Slide Show files\posters\Rennes.jpg"/>
          <p:cNvPicPr/>
          <p:nvPr/>
        </p:nvPicPr>
        <p:blipFill>
          <a:blip r:embed="rId3"/>
          <a:stretch/>
        </p:blipFill>
        <p:spPr>
          <a:xfrm>
            <a:off x="324000" y="2643120"/>
            <a:ext cx="1714320" cy="242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2" name="Picture 8" descr="X:\Intranet\ENGAGE\Action\WP3-ENGAGE local\3.2 Implementing the PR Campaign\Slide Show\Slide Show files\posters\Växjö.jpg"/>
          <p:cNvPicPr/>
          <p:nvPr/>
        </p:nvPicPr>
        <p:blipFill>
          <a:blip r:embed="rId4"/>
          <a:stretch/>
        </p:blipFill>
        <p:spPr>
          <a:xfrm>
            <a:off x="2224080" y="3505320"/>
            <a:ext cx="1422360" cy="20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5788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WHY JOIN THE ENGAGE CAMPAIGN?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417320"/>
            <a:ext cx="85075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involv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your local authority as well as citizens and stakeholders in reducing their energy consumption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contribut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o the European Union “3x20” objective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prove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that participative PR campaigns lead to real energy savings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515" name="Picture 6" descr="http://a4.sphotos.ak.fbcdn.net/hphotos-ak-snc6/249700_123893281026369_100002170929296_185887_7770965_n.jpg"/>
          <p:cNvPicPr/>
          <p:nvPr/>
        </p:nvPicPr>
        <p:blipFill>
          <a:blip r:embed="rId4"/>
          <a:stretch/>
        </p:blipFill>
        <p:spPr>
          <a:xfrm>
            <a:off x="0" y="4630680"/>
            <a:ext cx="4299120" cy="181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16" name="ZoneTexte 4"/>
          <p:cNvSpPr/>
          <p:nvPr/>
        </p:nvSpPr>
        <p:spPr>
          <a:xfrm>
            <a:off x="-52560" y="62452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ity of Pampl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contenu 2"/>
          <p:cNvSpPr/>
          <p:nvPr/>
        </p:nvSpPr>
        <p:spPr>
          <a:xfrm>
            <a:off x="4427640" y="4645080"/>
            <a:ext cx="4392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o take visible action   </a:t>
            </a:r>
            <a:r>
              <a:rPr b="0" lang="en-GB" sz="3000" spc="-1" strike="noStrike">
                <a:solidFill>
                  <a:srgbClr val="254061"/>
                </a:solidFill>
                <a:latin typeface="Arial"/>
              </a:rPr>
              <a:t>via displaying attractive po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A 5-STEP PARTICIPATIVE COMMUNICATIONS APPROACH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C:\Users\laura.guerin\Desktop\Sans titre-3.png"/>
          <p:cNvPicPr/>
          <p:nvPr/>
        </p:nvPicPr>
        <p:blipFill>
          <a:blip r:embed="rId1"/>
          <a:stretch/>
        </p:blipFill>
        <p:spPr>
          <a:xfrm>
            <a:off x="2340000" y="1125360"/>
            <a:ext cx="55609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rcRect l="12204" t="18890" r="9889" b="13387"/>
          <a:stretch/>
        </p:blipFill>
        <p:spPr>
          <a:xfrm>
            <a:off x="-3240" y="112680"/>
            <a:ext cx="9118800" cy="63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57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60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rcRect l="12425" t="19031" r="10222" b="12129"/>
          <a:stretch/>
        </p:blipFill>
        <p:spPr>
          <a:xfrm>
            <a:off x="-1764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9" descr="X:\Intranet\ENGAGE\Action\WP5-Com &amp; Eur ENGAGE Campaign\5.5 Eur campaign\Presentation of ENGAGE\ENGAGE_slide2_low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27" name="Espace réservé du contenu 9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citiesengage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ce réservé du contenu 9"/>
          <p:cNvSpPr/>
          <p:nvPr/>
        </p:nvSpPr>
        <p:spPr>
          <a:xfrm>
            <a:off x="0" y="260280"/>
            <a:ext cx="9177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oin the European ENGAGE campaig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oneTexte 1"/>
          <p:cNvSpPr/>
          <p:nvPr/>
        </p:nvSpPr>
        <p:spPr>
          <a:xfrm>
            <a:off x="-33480" y="4830840"/>
            <a:ext cx="91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CONTACT – Ian Tur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www.energy-cities.eu/i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54061"/>
                </a:solidFill>
                <a:latin typeface="Arial"/>
              </a:rPr>
              <a:t>+33 81 65 37 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1:51:23Z</dcterms:created>
  <dc:creator>Rohan Guyot-Sutherland</dc:creator>
  <dc:description/>
  <dc:language>en-US</dc:language>
  <cp:lastModifiedBy>Laura Guérin</cp:lastModifiedBy>
  <dcterms:modified xsi:type="dcterms:W3CDTF">2013-03-06T10:08:17Z</dcterms:modified>
  <cp:revision>112</cp:revision>
  <dc:subject/>
  <dc:title>Présentation PowerPoint</dc:title>
</cp:coreProperties>
</file>