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52F66-AE93-4B91-AFC4-2CE7C78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D9661-0FF0-42CC-AAFA-5AFAB838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FF109-B48A-4896-B8A5-6611F9AB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D28C6-9FD6-4297-9706-075432FD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F4A18-1F4A-4752-81AD-9EB9A6B6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4F14D-4D93-495E-B988-9CF155C6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5A63D-09B6-4A30-AC89-3F6315EF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D001D-4295-469B-9DB9-9541B0E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865FE-B37C-4771-A50F-A834B5C18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71B395-A076-4DAE-A25C-88142D9EF4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C95A9-4B8D-42A8-B31A-2D6DCB6D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06A05-F84C-45CB-AC3A-44F63C0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D772D1-1A32-4F38-A69A-78D7FF5B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17C806-7DC4-47BB-A888-A36D7989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5DFD12-6B5C-43C1-82F0-B15DF79F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B85286-F825-410C-8B47-8B792EE2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E4BA9-2434-4446-A6DF-BD2C1844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F32AB3-2BDF-4ABB-9506-54232B3D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7D0E4-6C8D-4401-8CBD-D215B0C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A9E74-6D78-47E9-B7D0-49092E4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0BABFE-B2FA-4B95-B8E1-F1011C6B5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C8D90-FA0C-46D4-AB33-1297E3E85C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51F7-3DC5-43A7-A9F5-709D57DF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D2F6-877B-4D60-A7EB-2D4C04C4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D36B-6246-4510-B527-5C8D9B0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7290-6BE4-4A21-87AA-2CD023AA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B8C1-5859-465C-A34C-113CBD55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12D9-E0B0-443F-B90A-A3B7C991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46B34-38EE-4C52-9420-B27EB06B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555C8-E02B-476F-8357-B61EA7AD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A29F-688B-4068-A644-B7D7478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AFA4F-D453-4AAC-8D80-56C6CF8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56A8-D52D-443A-8665-89DA45727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D0871-7D63-4343-8101-A2493D1ABA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6DAFC-656D-4D9A-8E33-751D01F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A393F-1035-4D8B-9EF5-C7E5B249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CFD44-A8BB-429D-9AD9-71E2F55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196B6-4DED-4516-B0EC-D8689D6F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AC62B-29A3-45BF-AF05-7824DB70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4CEC0-C460-4315-8548-3328E0B4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5AA73-99F4-49F8-A927-E9A7342E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ED5E1-DB6C-4C61-8A27-5156E444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E0C6F-092C-421D-993E-15CBBE1D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3FFA2-2AE3-42A6-A4E8-9647D901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806D6-ED55-466A-9C8C-59F62AE10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102D-F6E7-4056-9763-DC1699B3D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90F0-7D20-4C24-9E3D-48BD982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A3A4-9343-4F8C-AEA3-294C9CF3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A519-0042-487B-9669-400E272F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55DB-162E-4D37-AEF3-E3ECF87B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F9C5-EB84-465D-A284-13AEB556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3FB8-D440-45C7-939D-D14DD478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86CE-2039-41FF-B20D-F7D68904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A822-A771-4B50-9906-1D67479E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FF4A-E1CA-4941-A225-3C41FDD9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D1E8-0F14-466A-8C64-C5C06C1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693D-89D0-4286-BA9A-FCC8BBD8B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A2ACC-41F1-49F0-8A80-6B8E4A12C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F193-2BE6-431F-B371-0F665184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BE5A0-52CD-4CBC-BAE5-A9118451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24C59-443E-4F48-ADF6-85DEEB37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18A78-EB48-4807-8F43-1EA57AD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B6B1D-8933-4BD2-A27F-B074A184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27E25-8EA6-45FA-9B87-538F22AD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12A85-B5EE-4098-BBD9-685C458E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E0E27-B54A-4E50-AD7F-6C7444C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73DAE-5A55-411E-A93E-62CB65B8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14810-6FE9-46E3-8DE5-8068515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51A97-3DDE-41EA-B9ED-FD4D4300A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164-EFB6-4329-993B-FA1255F4B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983E-9A33-47E5-B8D2-1F52F26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113-79A1-4E7F-8007-7FE20644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B0DB-D9D0-45BA-BBF7-A0CC917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6F01-5E5E-49F8-A514-928B3ED2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D9D-FCA1-4426-82B4-33DC88E8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7E6-C676-4D24-AC2A-EA6D7A67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A12A-DE1A-4C40-8804-13FBF3D3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43C8-E8CD-43C6-8676-A201B11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5972-7A5F-4D00-8D66-A47C6CCA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8FB1-90B0-4BAE-A76D-406F50D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2E5-2BA3-4D5E-8C7E-299752AA2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4CBE2-9F56-434B-B282-87C8EA3A0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472F8-9BDE-4E22-A3BC-B7B1ED89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AFE89-CC48-41AB-85DD-CEE083B4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6D357-9B14-485B-9BED-05922FDC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5EDB9-5EF1-431C-9B48-4A938280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2142E-5E4C-426B-B1E5-1A69CFF5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34C16-D2A5-4236-B1CB-7B2C06B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9F161-296C-4D4C-97F5-07B08AC5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35EA5-FF87-4C82-B2CE-27EC46FF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EB7EE-6782-461C-AF9E-CD5DA56D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C2A87-0859-4348-AFA5-B8B76A92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B56E1-E8F9-40F5-8C98-3AA7BE02F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09E3D-C5B9-4C2C-BB55-B8819A129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A4243-B76A-4164-8916-3C6F7AD1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BE836-9646-4F8E-8FB4-46628712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06FF0-A481-467A-83B8-2A54DEF5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699BA-08FA-4BF0-8BDE-E1F3B360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5095C-FFB0-4206-A9D8-4D55A455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40C66-EDAE-4356-9EAB-416B74F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351FF-5D85-4A6F-B850-AEA7F0BE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FD44D-0B9F-4401-BEB5-A0EA46D8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45CE7-1DE7-4551-9B84-20F9EA9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6426A-CCB1-4581-BC21-8007C0A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6BA0D-6906-49C3-823E-F0BC6A489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372B-4B46-4F6F-97A7-99567FE60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04A0-B33A-498B-A48F-BFDD95E5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B892-3350-4D10-A2D0-F89A9E68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20BA-4AF5-4900-BF6A-363CB9F9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7658-3A32-44BD-936E-95B12BCF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8471-E3BB-4E6F-B509-CD86C423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87DB-314D-4E06-B406-25E54975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6FF0-AF8E-4AD6-A43A-FA41741E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9692-D6FE-41E1-958F-8A6AB4F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8BF1-B8D8-4019-AA5F-6494D41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E98E-ACD6-4E29-8054-3483976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491B-FC58-4168-B6E6-1F569431E1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BC6A4-18AD-47BF-863B-30BF62F17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04A07-8357-4D10-9B84-0DB6098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EA940-2579-4E9A-8A26-ADE7C76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2DD22-9675-428A-BAE3-99AEDA4FB444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411D5-8C34-42B7-9C9C-F747E49372D6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BD9BB-9526-4585-ADE4-305BE6FA801D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00D32-CF1F-40A4-BEED-5DE8F5917B12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A3410-FE4B-47E0-AF4B-060B6A23BF8A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FF199-C38D-488B-9B61-55E24FFFC6BD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CF3A8-7A65-487B-B45B-9DE7AB1AC138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7B9C1-9604-4DDA-956B-366C7AB15BF8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0CF9E-C5FA-4902-8A8E-02EAD0940692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C6A6E-4FCC-4518-9BE9-C39271954857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179280" y="85680"/>
            <a:ext cx="2243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971640" y="836640"/>
            <a:ext cx="37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UDADANOS, INSTITUCIONES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…  </a:t>
            </a: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Y ALCANCE LOS OBJETIVOS DEL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254061"/>
                </a:solidFill>
                <a:latin typeface="Arial"/>
              </a:rPr>
              <a:t>PLAN CLIMA-ENERGÍ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DE SU COLECTIVIDA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5508720" y="83664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MPRESAS…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LA CAMPAÑA ENGAG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457200" y="1125360"/>
            <a:ext cx="5048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na iniciativa de comunicación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ticipativa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 realizada por varias ciudades europeas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involucra a todos los ciudadanos e instituciones para que formen parte de la construcción de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un futuro energético sostenible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3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457200" y="-98280"/>
            <a:ext cx="7859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MOVILIZAR GRACIAS A CARTELES INNOVADORES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45720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na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erramienta muy fácil de uso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para crear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arteles personalizados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presenten compromisos en el ámbito de la energía sostenib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5292720" cy="37400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1714320" cy="2427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457200" y="11160"/>
            <a:ext cx="8578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POR QUE UNIRSE A LA CAMPAÑA ENGAG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457200" y="1417680"/>
            <a:ext cx="850752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involucrar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a su autoridad local, ciudadanos y actores locales para que reduzcan su consumo energétic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contribuir 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a conseguir los objetivos “3x20” de la Unión europe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probar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 que las campañas de comunicación participativa publicas  conllevan ahorros energético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a valorizar sus acciones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exponiendo pósteres atractivo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úntese a la campaña europea ENGAG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O – Ian Turn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 </cp:lastModifiedBy>
  <dcterms:modified xsi:type="dcterms:W3CDTF">2012-06-05T07:10:08Z</dcterms:modified>
  <cp:revision>140</cp:revision>
  <dc:subject/>
  <dc:title>Présentation PowerPoint</dc:title>
</cp:coreProperties>
</file>