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4CE4B-FB21-4EBE-8597-180BF62A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FC734C-4CBA-4FA1-ACE5-0E21F239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82965-0CDC-4349-A879-0B1C7FD4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703D8-FE9E-4EE4-8038-A63FB710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AE5EB-4119-4686-9005-352973A3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4B8F4-0C55-46C3-9FFF-8EFDFD70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0F869-E310-4F29-86D5-0E829A54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292D6-9B22-40FF-BEDA-4EB512B2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5ED5A-26C0-4D48-B02D-03BF99C071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CDD4F7-6D4A-4A51-A621-341B7C1D6E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F42CCB-38E5-4449-AF9D-F5D786EF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C1E4F7-312D-45B3-9196-B0E67D17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B375F2-EBD2-47D5-A7A2-52A9D45F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6591B8-6B6A-49CA-9DD3-2402F4EC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DF6227-04E2-4CE9-B58E-CEC6B7CD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FD06E5-5416-4087-9BA6-7029C688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998083-2CE4-4F49-A915-B0AB9B77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D20A74-7C9A-40CE-B71A-FA775F78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E584AD-50DF-401A-9532-E6BA82C4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868ECF-9586-4369-A453-284A61E0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C0AB2A-F6EE-4C72-BA25-E7A98C9EF5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09C4B-20A2-440E-8FEE-4D73CCECB9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C3FE0-1EB6-4947-90C8-395CE88E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B3A08-8615-45BA-A583-11232B90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5BA82-2739-4EB1-B734-A784101F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37564-6FF2-4026-AFEF-C9E9019A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B4B48-7563-484A-8F74-E9928A6D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DAEC0-5CD6-4102-9EB7-9EAE961D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2F138-527E-4B13-94BA-4F1293AC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BD9B0-7EE5-4BB5-8D4D-5673942C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4796E-0CF7-4024-8164-4FAE606A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7AB10-B8E7-43E1-B6F8-B977D1B2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BC57F-1837-42EF-9FA4-77438D5D65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747A0-B0C2-41A2-959E-7DC689138D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1311D8-6AD6-475B-8DCE-0DE9CC94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BFFFF4-CD40-42A6-AC00-CBC0D1B0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DC5285-B84D-47BA-8248-A8DBD5B6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CA2578-2988-4B4F-8F64-4B544057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ABC58-A388-4F9B-80B3-7F1996B8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E93D41-F4F1-4838-B07D-98DBB826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65383-CA91-42EA-A6A0-64A6F0D9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7BA6A-E752-465B-90D1-287EAF34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313D6A-EC68-481A-967D-7969B2B7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DA377-B91E-41AF-9FC2-8A377451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BE9E49-439C-497B-97A4-4A47C4CD98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0636D-9F12-41DB-8544-2C19042DCD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569C-4E44-42ED-94EF-52E35B7A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F259B-4E02-422F-81DA-6E915440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4623-93F0-4116-83D3-E0653DF7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83CE-65EF-440F-B5C7-E90472F6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1A389-FD91-46AC-BD25-F74FDAD9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07D63-09B8-43B0-9BB6-315EBFE0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95BE4-BCA6-42C1-B902-2E1F2EBA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EBB6-ABB0-4DD5-8A60-F79D83CB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B2874-11E5-4892-AE9D-8ACFF508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D746-7228-4AC1-B2AB-35129ABA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9DF3D-9DB4-4A0D-92B1-4C4B09C526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D18FA-6ED8-42BF-83C1-68E140171B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982D2-FCA6-4159-AB24-1DF6CAEB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319FB-6A50-4E4B-958D-A4FF23DE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FD050-7802-452F-8719-CFA91209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BB351-C870-45DB-B6B7-2167D421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AFE95-FFA3-4EDB-AE64-BCA0E28F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DE028-0B73-4C6D-9B76-707C9BE0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E54C2-CA1A-4BA6-9F23-C93267B1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774FD-9737-4C09-8B17-E56F8DC6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B2E15-93A1-4326-9222-39A46C98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6364F-E86F-478B-87DB-E159BD68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D0DC4-2F7F-4E8F-A74B-38142AD36F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3073-D3C3-4EB8-B622-FD4434F1B1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013F-938F-4773-A79B-08ABF95E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F60B-EC50-4989-81E3-88535EC6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7982-40C0-4D43-8E32-CAFF50CC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1CA3-9498-40C1-8E66-C1CD62EA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0186-203D-4857-A1CB-82F30E55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BCBB-43FA-4C1B-94BF-7DEB81C2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8E1A-0A1F-494F-AFA9-82C740B8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D9F1-84DB-4A41-8126-9AC9DB94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82AC-9520-4D42-ADD6-5CFE68AD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43FC-D0E0-461F-8C38-8EDE62F6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92A9-8B87-4C03-AF08-C410FE1EB4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E10B1-1F18-43AD-904F-D0F11C9EF5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3ACE0-C9B6-4B58-A0D9-06740B4D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CB98C-6B09-48DA-B2E5-5CA071E7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B7C48-517D-40B7-A9C0-3AD4A3CA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74006-3B2B-49A4-817B-19771910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B12CE-E9C0-48D1-AC7E-8E523D7E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3F49A-B52E-4A42-8E82-76759F2B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3A2CD-4D81-4A4A-BBC1-35B55E47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3AB5E-9D44-442E-B440-7A24B867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06808-F56B-4B02-8AC2-3E15DD6C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186C6-0C5F-481B-BFED-36AC67EB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29C54-7CF0-4C57-9B9F-AB8EE17D14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0AE86C-B525-40E9-8F43-B9CB4C1EF9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C31C2B-B221-4F67-B063-2F00D172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255BF6-32A3-4E52-9BE2-97E163D0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BEA775-DDBF-4293-B685-8396C5C3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BF193-DEF9-418B-A7E3-8AF27401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566BF1-F60A-4EFF-856F-79E434A4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D6FF6D-68D6-4C8E-975E-84579E47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6B6C42-4571-4CFF-BCAF-E0AF512D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8F7CEB-76EA-42EB-AA4B-ACE4D1A5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10F16A-1CB7-4DCB-B358-A5250D3C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04052-1D8E-41DA-9FD9-85B901BE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1DA07F-EC2E-4220-AE5C-41DF6D20F8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B99FE-70FC-4787-A420-A0DB7BA0A6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6998A-38AB-4A9E-A92D-693B2393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A10E1-6A0D-46DC-9F84-9E5E1CC4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9363-5DAB-4452-A119-D44AE92D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4AB23-5C30-4E9E-96A8-050FB036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300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3C305-3B5F-45C7-A2E5-5F96F8EF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3D507-2F12-4D43-BA8C-EC74D267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91CBF-81FB-4457-A72C-9F4F0FFE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869F9-E8C9-47B9-8BB1-DF24CBE0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8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9D98A-96B5-43C8-9D1E-142D62DF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520" y="141768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520" y="3821400"/>
            <a:ext cx="40150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65E4A-8505-4B0B-8493-13D612AC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28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1360" y="141768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28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1360" y="3821400"/>
            <a:ext cx="26492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92308-046D-484F-91AB-5D9D549C4B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2A0716-32BD-4B21-A9CE-51A72B814C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EFAC6E-514E-40E9-884B-D2F7C885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25328-4BD0-4139-A04C-E903DE20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DE7E9-207B-4391-B9CF-F15F000999A2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7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61E3B-A761-475D-A0BE-4ABD9DB6E2BE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5F22B-6014-44D6-879A-52AD5DD73EEC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-1440" y="0"/>
            <a:ext cx="9158040" cy="6870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25CDA-FDB1-4B47-B014-6D72E0EEE6A5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A5DFD-A069-48FF-B41D-7EE65BA3D05F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88A84-0190-4E5F-B279-8BFD434DA904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70AC4-2FDA-41DE-A344-7B743615F558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4252D-F2A2-4EA2-9BC7-6057F0EFFAB8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1A810-5205-45C9-BB86-8FEA7C9E03A2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3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4C7E6-5C92-4C34-9C16-052F1DB4A2AD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1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"/>
          <p:cNvSpPr/>
          <p:nvPr/>
        </p:nvSpPr>
        <p:spPr>
          <a:xfrm>
            <a:off x="179280" y="85680"/>
            <a:ext cx="2243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54061"/>
                </a:solidFill>
                <a:latin typeface="Arial"/>
              </a:rPr>
              <a:t>ENGA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971640" y="836640"/>
            <a:ext cx="37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UDADANOS, INSTITUCIONES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755640" y="4797360"/>
            <a:ext cx="838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254061"/>
                </a:solidFill>
                <a:latin typeface="Arial"/>
              </a:rPr>
              <a:t>…  </a:t>
            </a:r>
            <a:r>
              <a:rPr b="1" lang="es-ES" sz="1800" spc="-1" strike="noStrike">
                <a:solidFill>
                  <a:srgbClr val="254061"/>
                </a:solidFill>
                <a:latin typeface="Arial"/>
              </a:rPr>
              <a:t>Y ALCANCE LOS OBJETIVOS DEL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254061"/>
                </a:solidFill>
                <a:latin typeface="Arial"/>
              </a:rPr>
              <a:t>PLAN CLIMA-ENERGÍ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254061"/>
                </a:solidFill>
                <a:latin typeface="Arial"/>
              </a:rPr>
              <a:t>DE SU COLECTIVIDAD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5508720" y="83664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MPRESAS…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LA CAMPAÑA ENGAGE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457200" y="1125360"/>
            <a:ext cx="50482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Una iniciativa de comunicación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articipativa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 realizada por varias ciudades europeas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que involucra a todos los ciudadanos e instituciones para que formen parte de la construcción de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un futuro energético sostenible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3"/>
          <a:stretch/>
        </p:blipFill>
        <p:spPr>
          <a:xfrm>
            <a:off x="5505480" y="1125360"/>
            <a:ext cx="3638520" cy="51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"/>
          <p:cNvSpPr/>
          <p:nvPr/>
        </p:nvSpPr>
        <p:spPr>
          <a:xfrm>
            <a:off x="457200" y="-98280"/>
            <a:ext cx="78598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MOVILIZAR GRACIAS A CARTELES INNOVADORES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457200" y="1052640"/>
            <a:ext cx="84358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Una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herramienta muy fácil de uso 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para crear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carteles personalizados 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que presenten compromisos en el ámbito de la energía sostenibl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3851280" y="2637000"/>
            <a:ext cx="5292720" cy="37400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1714320" cy="2427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4"/>
          <a:stretch/>
        </p:blipFill>
        <p:spPr>
          <a:xfrm>
            <a:off x="2224080" y="3505320"/>
            <a:ext cx="1422360" cy="20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"/>
          <p:cNvSpPr/>
          <p:nvPr/>
        </p:nvSpPr>
        <p:spPr>
          <a:xfrm>
            <a:off x="457200" y="11160"/>
            <a:ext cx="85788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POR QUE UNIRSE A LA CAMPAÑA ENGAG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457200" y="1417680"/>
            <a:ext cx="850752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Para involucrar </a:t>
            </a:r>
            <a:r>
              <a:rPr b="0" lang="es-ES" sz="2700" spc="-1" strike="noStrike">
                <a:solidFill>
                  <a:srgbClr val="254061"/>
                </a:solidFill>
                <a:latin typeface="Arial"/>
              </a:rPr>
              <a:t>a su autoridad local, ciudadanos y actores locales para que reduzcan su consumo energético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Para contribuir  </a:t>
            </a:r>
            <a:r>
              <a:rPr b="0" lang="es-ES" sz="2700" spc="-1" strike="noStrike">
                <a:solidFill>
                  <a:srgbClr val="254061"/>
                </a:solidFill>
                <a:latin typeface="Arial"/>
              </a:rPr>
              <a:t>a conseguir los objetivos “3x20” de la Unión europe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3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Para probar</a:t>
            </a:r>
            <a:r>
              <a:rPr b="0" lang="es-ES" sz="2700" spc="-1" strike="noStrike">
                <a:solidFill>
                  <a:srgbClr val="254061"/>
                </a:solidFill>
                <a:latin typeface="Arial"/>
              </a:rPr>
              <a:t> que las campañas de comunicación participativa publicas  conllevan ahorros energético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4"/>
          <a:stretch/>
        </p:blipFill>
        <p:spPr>
          <a:xfrm>
            <a:off x="0" y="4630680"/>
            <a:ext cx="4299120" cy="181296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"/>
          <p:cNvSpPr/>
          <p:nvPr/>
        </p:nvSpPr>
        <p:spPr>
          <a:xfrm>
            <a:off x="-52560" y="624528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ity of Pamplona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4427640" y="4645080"/>
            <a:ext cx="4392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5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ara valorizar sus acciones </a:t>
            </a:r>
            <a:r>
              <a:rPr b="0" lang="es-ES" sz="3000" spc="-1" strike="noStrike">
                <a:solidFill>
                  <a:srgbClr val="254061"/>
                </a:solidFill>
                <a:latin typeface="Arial"/>
              </a:rPr>
              <a:t>exponiendo pósteres atractivo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1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2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0" y="260280"/>
            <a:ext cx="9177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Júntese a la campaña europea ENGAGE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-33480" y="4830840"/>
            <a:ext cx="917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CONTACTO – Ian Turn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www.energy-cities.eu/ian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+33 81 65 37 9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1:51:23Z</dcterms:created>
  <dc:creator>Rohan Guyot-Sutherland</dc:creator>
  <dc:description/>
  <dc:language>en-US</dc:language>
  <cp:lastModifiedBy> </cp:lastModifiedBy>
  <dcterms:modified xsi:type="dcterms:W3CDTF">2012-06-05T07:10:08Z</dcterms:modified>
  <cp:revision>140</cp:revision>
  <dc:subject/>
  <dc:title>Présentation PowerPoint</dc:title>
</cp:coreProperties>
</file>