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A18B7-CCE5-4A2C-B1D8-A151F7FC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D606E-0EE8-4DD7-8EF0-71E30FBB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51D5D-DC5B-4104-85FE-D5805CC4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6CD01-D32E-4817-A30B-E1E1F032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24554-8B0A-487E-997E-2E7E7302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B0635-B3AA-468D-9266-D7CAE80F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7FCBF-5E3A-41CF-84A9-17128FDF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9D8F0-9043-4A80-A442-6DCF7575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D6FD8-B55B-4216-B48F-972852D3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4F7C9-3788-4F0F-A400-4531A7A4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5F6E4-A18B-4BAB-A563-3086137C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C7D0F-20D9-42A8-96CF-A28B9190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4D337-BB47-4B92-9BB0-82DCD18E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F0F80-6B4C-4878-BFAE-5866A220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016F3-445C-4B70-85B7-FB4A3A55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AF11C-A855-445A-B40A-12C2D7A5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2653D-FE1A-4B74-A5FC-763F23E4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15B0F-98EF-48FD-98FB-F79DB58B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C99EA-81FB-4A07-AEBD-EC2905BF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35A64B-E61F-46C5-95BC-05B98485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FA027-21AF-4BCE-BAB4-2C409F2E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E786C-0FBC-4614-BAB9-962A907C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C001A-BE7B-440A-BFBA-A83442B0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09E23-C993-41DB-81BA-FDFF9344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A4730-37F7-4BB0-9231-9CEAA8CA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D702B-7E6A-4D69-BD20-3C73AF78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FE871-1A81-46A1-8E9A-7E8A4D35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05C644-3AFA-40C5-AFDB-1E788764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4EDBD-913E-4D13-8B9B-2777BDC4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E7EE8-FE71-4DA3-951D-2CB3119C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FD8D5-FE24-4B0F-B2DF-6A3643BF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9DBC4-1D45-4C31-BD16-F6A76B4A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D120A-E72A-4E25-9F17-19CA156E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01E-B13E-4A3A-95AA-5D3A06FF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BCAD-EFFF-43D0-8469-943F221F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FE5-CB32-4561-9787-3A0D2F83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0D7-26BB-4FAA-A122-19B14726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076C-8E13-4C7F-931E-12D2EF4C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BA23-4890-4F32-818E-66F9394F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CB4-1C7D-477B-BC96-156BFAA3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A16-3DAC-4B97-8646-4867656C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0B1-270E-48DF-A949-5ABA4A1B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759-D99A-4F97-8033-89F3CF69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6EC-A37F-4235-9074-75483AE8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FF5-B9C3-4444-8653-25DD2FCF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3B82-68B2-4192-BFE6-36BA6F5C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57F2-26C9-4FD7-829D-54A0143B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AADC-143A-46AB-B0BD-61929663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971C-0AB6-4161-8571-E8886BF7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A3D4-95B9-4C5A-8C5F-ADED3DEC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99C3-8927-4DCF-85D5-4FE2E59E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2EB2-3E21-4C17-B33F-F48444CB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88AA-EC7B-46C1-8664-798C1BE2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0D25-1556-4B3D-BC14-A97CBF75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52D4-76DE-4B2F-8C8B-FB3310A3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7C92-3168-4034-A1AD-589E7831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2DDE-9AB8-4634-B792-75F33859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0C34C-F2A6-4FCF-B9CF-0ABFEAD0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25EF-8B49-47C7-8506-A46239CB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1DA2A-1A78-4D4C-A89A-8DF7A286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3217D-F1F8-4282-A0A6-75F8BE68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5C2F-12F2-47E8-B3C4-586510B5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10C1A-1FC7-42B2-B2E9-1E1F1B29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2E7A7-BA5D-450D-86AA-FE00AC62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731A4-03B3-489C-A4AC-FBB53769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426AF-D780-4A63-9FC2-4788A8CB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1221-87EB-4706-85A4-147AC400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DD655-C9F8-4B2B-8E90-7E305E66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876A4-E544-4344-8F67-B21D36D3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129BC-4673-4C32-A2B4-00649C9A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AD661-BE6E-4837-A386-D6FEDA6D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336A-3553-45C6-9268-87618889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EBD7D-5387-48D1-B88F-1E282F67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A778E-4223-4AED-889A-334F9DAD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A7AC2-4B69-431B-A85C-65227DA4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D99D7-3481-4C39-B940-2B40C490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952CB-D577-4898-9211-A5A8C184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5148C-540A-40D1-A2EB-3415EE67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57937-F689-4B60-BC69-B3E02DC9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C5C25-313C-4672-93DC-6CE3A03E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B996F-D281-4E92-8AED-AD94B344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FEDD0-A3D4-4397-B878-C2F1B09C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8D88A-FC93-4035-A82D-A151B8E8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988ED-3284-43D0-A024-D2D33ECE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9868F-8AEB-4895-8062-503B833D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1643F-06A7-44AF-B109-F06A80E6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678C7-57F7-4538-A46B-E4F7583A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DE180-F044-4AFA-B373-AFD4AF86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243EE-156C-49C1-8277-7876DD28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9AE7E-72BF-4F86-ADA7-451C147F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EDB02-7199-4669-B08C-DDB0430F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78C6D-6658-4E1A-9883-59D3FBA5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A5DC9-FBC0-458D-B6BC-FC59B8C7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C757D-608C-4920-BE0A-C501235F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73BD6-EE58-4631-BAEB-32DA9448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AD4ED-08B5-4860-9D1F-3D030941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55E38-2AFC-479B-AFE5-7D5DCCA3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5E93B-DF29-4124-8D8A-C7328C58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975D0-5CE4-4473-91F6-81617581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A62A2-6110-45BC-A2F2-3FBC2A98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B419D-DB61-4D57-8F03-CC9E1C4D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2E07B-ECF7-4CA2-98F4-75FDAAC6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8D0DC-6617-468C-9DD7-91DA70C5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AE663-AD05-4C41-A664-40F75756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25534-C60C-4F8A-9C40-2DD167A6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2CDCA-1234-40D5-9C66-25DFB81F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2D650-A9BE-44D1-AD4B-B7EFFF4F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7C9F5-64E8-4F22-9F57-FD9260AD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DACE-E327-4197-835E-31D66D53FD9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D59A-1DA3-49AA-A1B5-3BB5CD8DD30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X:\Intranet\ENGAGE\Action\WP5-Com &amp; Eur ENGAGE Campaign\5.1 Dvlpt graphic charter\Graphical guidelines\ENGAGE_Graphical_guidelines_files\ENGAGE_ppt_cover_update.jpg"/>
          <p:cNvPicPr/>
          <p:nvPr/>
        </p:nvPicPr>
        <p:blipFill>
          <a:blip r:embed="rId3"/>
          <a:stretch/>
        </p:blipFill>
        <p:spPr>
          <a:xfrm>
            <a:off x="-1440" y="0"/>
            <a:ext cx="9158040" cy="6870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6F6B-6505-45C2-B8FA-39BDF8D39B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1D2E-AE69-4076-BF31-AA5D1746D70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2D81-A496-4F0E-A35E-80B24163BB6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CFCA-5E11-4371-B7A4-3740DCBBC45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E9DE-5BC1-401F-8158-BBEA033C755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1A28-C7BF-4951-BF69-758ED58DB17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8EE9-7710-49C7-B81E-BB8D731A727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e 3"/>
          <p:cNvGrpSpPr/>
          <p:nvPr/>
        </p:nvGrpSpPr>
        <p:grpSpPr>
          <a:xfrm>
            <a:off x="0" y="-6480"/>
            <a:ext cx="9144000" cy="6859800"/>
            <a:chOff x="0" y="-6480"/>
            <a:chExt cx="9144000" cy="6859800"/>
          </a:xfrm>
        </p:grpSpPr>
        <p:pic>
          <p:nvPicPr>
            <p:cNvPr id="499" name="Picture 9" descr="X:\Intranet\ENGAGE\Action\WP5-Com &amp; Eur ENGAGE Campaign\5.5 Eur campaign\Presentation of ENGAGE\ENGAGE_slide2_low.jpg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44000" cy="685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2" descr="http://www.bilancarbonecampus.org/img/logo_ademe.jpg"/>
            <p:cNvPicPr/>
            <p:nvPr/>
          </p:nvPicPr>
          <p:blipFill>
            <a:blip r:embed="rId2"/>
            <a:stretch/>
          </p:blipFill>
          <p:spPr>
            <a:xfrm>
              <a:off x="6444360" y="5319360"/>
              <a:ext cx="420840" cy="46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8920" y="85680"/>
            <a:ext cx="259236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ENGAGEz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55640" y="836640"/>
            <a:ext cx="4248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CITOYENS ET ACTEURS LOCAUX…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03" name="Espace réservé du contenu 9"/>
          <p:cNvSpPr/>
          <p:nvPr/>
        </p:nvSpPr>
        <p:spPr>
          <a:xfrm>
            <a:off x="0" y="4724280"/>
            <a:ext cx="9144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1" lang="fr-FR" sz="1600" spc="-1" strike="noStrike">
                <a:solidFill>
                  <a:srgbClr val="254061"/>
                </a:solidFill>
                <a:latin typeface="Arial"/>
              </a:rPr>
              <a:t>ET VOUS ATTEINDREZ LES OBJECTIFS DE VOT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54061"/>
                </a:solidFill>
                <a:latin typeface="Arial"/>
              </a:rPr>
              <a:t>PLAN CLIMAT-ENERG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54061"/>
                </a:solidFill>
                <a:latin typeface="Arial"/>
              </a:rPr>
              <a:t>TERRITORIA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contenu 9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10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7" descr="X:\Intranet\ENGAGE\Action\WP3-ENGAGE local\3.2 Implementing the PR Campaign\Slide Show\Slide Show files\posters\Rennes.jpg"/>
          <p:cNvPicPr/>
          <p:nvPr/>
        </p:nvPicPr>
        <p:blipFill>
          <a:blip r:embed="rId1"/>
          <a:stretch/>
        </p:blipFill>
        <p:spPr>
          <a:xfrm>
            <a:off x="5505480" y="1122480"/>
            <a:ext cx="3639960" cy="5151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ffffff"/>
                </a:solidFill>
                <a:latin typeface="Arial"/>
              </a:rPr>
              <a:t>LA CAMPAGNE ENGAGE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1125360"/>
            <a:ext cx="50482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Une campagne de communication 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participative</a:t>
            </a: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 mise en œuvre par des villes européennes… 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par laquelle citoyens et acteurs locaux s’engagent à 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construire le futur énergétique de leur ville</a:t>
            </a: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3" descr="X:\Intranet\ENGAGE\Action\WP3-ENGAGE local\3.2 Implementing the PR Campaign\Slide Show\Slide Show files\posters\Leicester.jpg"/>
          <p:cNvPicPr/>
          <p:nvPr/>
        </p:nvPicPr>
        <p:blipFill>
          <a:blip r:embed="rId1"/>
          <a:stretch/>
        </p:blipFill>
        <p:spPr>
          <a:xfrm>
            <a:off x="324000" y="2644920"/>
            <a:ext cx="1714320" cy="2425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75708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MOBILISER GRACE A DES POSTERS INNOV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8000" y="1020240"/>
            <a:ext cx="89805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54061"/>
                </a:solidFill>
                <a:latin typeface="Arial"/>
              </a:rPr>
              <a:t>Un outil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acile d’utilisation </a:t>
            </a:r>
            <a:r>
              <a:rPr b="0" lang="fr-FR" sz="2800" spc="-1" strike="noStrike">
                <a:solidFill>
                  <a:srgbClr val="254061"/>
                </a:solidFill>
                <a:latin typeface="Arial"/>
              </a:rPr>
              <a:t>pour éditer des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osters personnalisés </a:t>
            </a:r>
            <a:r>
              <a:rPr b="0" lang="fr-FR" sz="2800" spc="-1" strike="noStrike">
                <a:solidFill>
                  <a:srgbClr val="254061"/>
                </a:solidFill>
                <a:latin typeface="Arial"/>
              </a:rPr>
              <a:t>présentant des engagements concrets dans le domaine de l’énergie durable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13" name="Picture 4" descr="X:\Intranet\ENGAGE\Action\WP3-ENGAGE local\3.2 Implementing the PR Campaign\Slide Show\Slide Show files\posters\Oeiras.jpg"/>
          <p:cNvPicPr/>
          <p:nvPr/>
        </p:nvPicPr>
        <p:blipFill>
          <a:blip r:embed="rId3"/>
          <a:stretch/>
        </p:blipFill>
        <p:spPr>
          <a:xfrm>
            <a:off x="3851280" y="2565360"/>
            <a:ext cx="5292720" cy="3740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4" name="Picture 8" descr="X:\Intranet\ENGAGE\Action\WP3-ENGAGE local\3.2 Implementing the PR Campaign\Slide Show\Slide Show files\posters\Växjö.jpg"/>
          <p:cNvPicPr/>
          <p:nvPr/>
        </p:nvPicPr>
        <p:blipFill>
          <a:blip r:embed="rId4"/>
          <a:stretch/>
        </p:blipFill>
        <p:spPr>
          <a:xfrm>
            <a:off x="2224080" y="3505320"/>
            <a:ext cx="1422360" cy="20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788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ffffff"/>
                </a:solidFill>
                <a:latin typeface="Arial"/>
              </a:rPr>
              <a:t>POURQUOI PARTICIPER A ENGAGE ?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268280"/>
            <a:ext cx="8686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Pour engager </a:t>
            </a: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votre autorité locale, les citoyens et acteurs locaux à réduire leur consommation énergétique</a:t>
            </a: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Pour contribuer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aux objectifs « 3x20 » de l’Union européenne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Pour prouver </a:t>
            </a: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que des campagnes participatives mènent à de réelles économies d’énergie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17" name="Picture 6" descr="http://a4.sphotos.ak.fbcdn.net/hphotos-ak-snc6/249700_123893281026369_100002170929296_185887_7770965_n.jpg"/>
          <p:cNvPicPr/>
          <p:nvPr/>
        </p:nvPicPr>
        <p:blipFill>
          <a:blip r:embed="rId4"/>
          <a:stretch/>
        </p:blipFill>
        <p:spPr>
          <a:xfrm>
            <a:off x="0" y="4630680"/>
            <a:ext cx="4299120" cy="181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18" name="ZoneTexte 4"/>
          <p:cNvSpPr/>
          <p:nvPr/>
        </p:nvSpPr>
        <p:spPr>
          <a:xfrm>
            <a:off x="-52560" y="624528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© City of Pampl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contenu 2"/>
          <p:cNvSpPr/>
          <p:nvPr/>
        </p:nvSpPr>
        <p:spPr>
          <a:xfrm>
            <a:off x="4284720" y="4508640"/>
            <a:ext cx="4859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Pour valoriser les actions réalisées </a:t>
            </a: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en affichant des posters attractif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UNE APPROCHE PARTICIPATIVE EN 5 ETAPES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457200" y="1417680"/>
            <a:ext cx="8229600" cy="46036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C:\Users\laura.guerin\Desktop\steps.png"/>
          <p:cNvPicPr/>
          <p:nvPr/>
        </p:nvPicPr>
        <p:blipFill>
          <a:blip r:embed="rId2"/>
          <a:stretch/>
        </p:blipFill>
        <p:spPr>
          <a:xfrm>
            <a:off x="2124000" y="692280"/>
            <a:ext cx="604836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" descr=""/>
          <p:cNvPicPr/>
          <p:nvPr/>
        </p:nvPicPr>
        <p:blipFill>
          <a:blip r:embed="rId1"/>
          <a:srcRect l="13769" t="17632" r="7535" b="14085"/>
          <a:stretch/>
        </p:blipFill>
        <p:spPr>
          <a:xfrm>
            <a:off x="0" y="1890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"/>
          <p:cNvPicPr/>
          <p:nvPr/>
        </p:nvPicPr>
        <p:blipFill>
          <a:blip r:embed="rId1"/>
          <a:srcRect l="13769" t="17071" r="6977" b="11007"/>
          <a:stretch/>
        </p:blipFill>
        <p:spPr>
          <a:xfrm>
            <a:off x="-12600" y="93600"/>
            <a:ext cx="91566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e 5"/>
          <p:cNvGrpSpPr/>
          <p:nvPr/>
        </p:nvGrpSpPr>
        <p:grpSpPr>
          <a:xfrm>
            <a:off x="0" y="-6480"/>
            <a:ext cx="9144000" cy="6859800"/>
            <a:chOff x="0" y="-6480"/>
            <a:chExt cx="9144000" cy="6859800"/>
          </a:xfrm>
        </p:grpSpPr>
        <p:pic>
          <p:nvPicPr>
            <p:cNvPr id="526" name="Picture 9" descr="X:\Intranet\ENGAGE\Action\WP5-Com &amp; Eur ENGAGE Campaign\5.5 Eur campaign\Presentation of ENGAGE\ENGAGE_slide2_low.jpg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44000" cy="685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12" descr="http://www.bilancarbonecampus.org/img/logo_ademe.jpg"/>
            <p:cNvPicPr/>
            <p:nvPr/>
          </p:nvPicPr>
          <p:blipFill>
            <a:blip r:embed="rId2"/>
            <a:stretch/>
          </p:blipFill>
          <p:spPr>
            <a:xfrm>
              <a:off x="6444360" y="5319360"/>
              <a:ext cx="420840" cy="46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8" name="Espace réservé du contenu 9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oneTexte 10"/>
          <p:cNvSpPr/>
          <p:nvPr/>
        </p:nvSpPr>
        <p:spPr>
          <a:xfrm>
            <a:off x="-33480" y="4830840"/>
            <a:ext cx="917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CONTACT – Ian Tur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www.energy-cities.eu/i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03 81 65 37 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Espace réservé du contenu 9"/>
          <p:cNvSpPr/>
          <p:nvPr/>
        </p:nvSpPr>
        <p:spPr>
          <a:xfrm>
            <a:off x="0" y="115920"/>
            <a:ext cx="91774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Participez à la campag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européenne ENGAGE 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1:51:23Z</dcterms:created>
  <dc:creator>Rohan Guyot-Sutherland</dc:creator>
  <dc:description/>
  <dc:language>en-US</dc:language>
  <cp:lastModifiedBy>Laura Guérin</cp:lastModifiedBy>
  <dcterms:modified xsi:type="dcterms:W3CDTF">2013-03-06T12:44:40Z</dcterms:modified>
  <cp:revision>124</cp:revision>
  <dc:subject/>
  <dc:title>Présentation PowerPoint</dc:title>
</cp:coreProperties>
</file>