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EF263-EDE1-4978-A43D-728C3C5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48FD-DAA0-40AC-BA0E-4182ADED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4FFC-F816-4C0D-AD06-0B67394E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A97BC-3591-427C-8F94-58B662B5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22E67-84F4-47BE-8F82-0D11AAB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B1764-F0C7-4663-8F62-26882D5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4CD0-FE46-4D88-904F-228D852F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F4BC-8135-4DA3-9935-73F845DF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7611-110E-4DB8-B6F1-B59261EC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BB459-6836-4731-A4D8-A2FEEE24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04301-7DD3-48BA-B1C0-0C8B0F0E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6D132-EF28-41F2-9A82-6C7F4A0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E2E06-2FF3-420B-ACC6-9E16315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633F6-165E-4FAC-8950-B890694C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8F819-0C63-439C-8140-55FDCB92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2EB99-6BC5-4C16-83CA-3303BC4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D1CC2-78A4-4618-A56D-DBB50AD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BB631-8463-4166-B402-BD2ED49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B0B6C-5BD0-4058-B498-ADE9256B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C779A-AC77-459C-8EAF-FDDE8FCE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56AAB-2276-49A7-AE76-17D551A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CC0C9-2F12-4CC1-A317-DFA0BB74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34EE0-47DB-44E2-861B-55179EB1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FC79B-B157-4350-A210-052D92C0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A5C36-E9ED-471A-A086-24732B9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6532A-9261-4B39-921E-5DE202F9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13FA8-DAF2-4244-AB31-6D25A589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479B9-734B-4D29-8622-86B0124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CE637-B44E-4321-9891-D824498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4AEB1-BEE5-4319-845E-1BF53E7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9082A-543E-412C-ACE6-83A98896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005E1-229E-4AB9-AFAF-816A3E31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73846-ADAA-468C-AE8B-11E0058F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463-27C8-4EC8-8E21-044590B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85B-EF06-4789-A7D0-1950FA05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E99-2363-4057-AE28-EC3B47EF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1B9-C70F-4A0B-B1AC-A882BA4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491-C307-4025-A1F8-CC2A90A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17D-A5B8-42B1-9F8E-D7476888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839-EDA5-45A3-BA54-5DB9457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4E9-036D-4C9D-A424-1948CC2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E76-F37A-4E50-B41C-E55BBA1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EE6-0A57-4659-8876-B3C7AA5C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117-8C21-42C9-B0BA-8B321AE1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D9B-717A-4B97-8DA9-02475EE2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AB9-DBE7-4342-8389-C864B86E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69F3-CA38-41D3-BECE-F4CAA586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09C3-C135-48FE-AE29-5B0DE8D9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8FC8-8110-48E2-A004-638EA58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A574-B27A-4BC4-877B-5F26797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3150-9698-457A-AFC6-B7231346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6422-EB2A-4DF2-B9C1-10D7BDD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FC79-E584-4CDB-8001-7EB6C14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85C-C819-4A77-9CC4-FDB98B6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41A6-0D00-46D1-BF5F-0E8D135C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E575-842B-4CF6-B5F9-1582A3E5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CC31-2137-430F-95DC-ABC7819B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DC1A-06D3-4F30-A067-4955D189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762F-CDF4-4FAB-8E99-E83412FE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498A-49D9-4133-AB9B-753F51F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AAA2-9AFE-47DF-988A-DC62F1D2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1CA6-63A1-4133-899B-2CAFA6B3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85B5-5DCF-41E5-A2F4-527418DE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FF67-2AD7-46B7-B0BE-51CADB4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BD13-D58C-4D69-B82E-7045E55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8764-4254-422A-92AC-2C7579AC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51BB-58C3-4F34-B93F-57D27FE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0A88-BCE4-4A46-B696-BA93016D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9C4A-8EBF-44C0-AFD4-0AA74AD7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8C0F1-48C9-420F-A40A-85958C89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62F0-4423-42D1-B358-1021F325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CAFA-117A-44ED-8946-12EB34A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9F5D-5FC0-48EC-AA41-C5EDD5D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020B-6277-4A1A-AAE8-351EDFB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B161-FFFC-4611-A428-20786833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9A89-0D54-4431-B2D2-56B00F6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08210-1BD2-45ED-8F5C-1B64ED3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6A96-6944-4AF4-A7FA-10035F87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589C-AEA1-4331-8674-907A04EB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7A03-CC73-409B-BC92-8081CBC6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EEB3-DCBB-4240-B7C5-DFE2FA13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41C3-0B2A-4EAF-BD89-C7F25DDD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6C10-742F-450E-808F-94C6941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698EE-DCB3-4C16-8444-D520B98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1EC6-4175-4CFF-BB68-320B4C0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4130-A2A0-4AA8-8AFA-D573DE6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21D5-753A-4CFD-8686-FC22C7D0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CAD1-BD3F-479A-8BB0-A65D99CF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8955-F076-4F82-87CA-650F05FD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865E1-DE28-405B-84C6-3B6636C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2038-E70C-4DB3-B894-84401D6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270C1-6699-4E27-AB34-2B6143B5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8BCD-12F5-4121-8262-3205AD9D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F11C-C88C-4D62-9C29-0A30796A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BCBB-EE7F-402C-9F52-B24A0909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AFB6-E126-4889-880D-19AB98FB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0CA1-C1F9-47B2-87DE-9B0F3F43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5FE29-712F-4465-9CB7-6F28C50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8AE36-E2A3-4562-8432-8997C04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3C0D8-9070-4C1F-8AF5-569045C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CB95-A9C8-44D0-BB37-4759A56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8E0ED-7BF8-486D-9D0D-C9DA72D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20652-B932-45C8-AA9C-5615C323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ADD1-2771-4294-9587-A4820266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CDD4-A86D-420A-A1FD-203B5793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CECC-A588-43DE-8805-E1AC10FC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8A34-2350-48FC-B58D-EC85313B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A708C-E491-4BA9-8B5B-46EBCD8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334-C435-4EE4-8792-558E2C06F2C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4C6F-2D2F-4238-871B-837027A76E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6CC-6BC2-4BE5-A818-22B404D2FE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66E4-E852-4226-BAC7-3AA860814E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FEC9-567D-49E0-92C2-711F62D3E4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728E-1A7C-4369-A0E4-2FC74D8138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D0FE-D84C-4BAE-969A-495C8919F7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9BA4-3FB5-4368-AEF7-483FE21CC3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CF7-1AF0-4767-9958-530C04ABA1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e 3"/>
          <p:cNvGrpSpPr/>
          <p:nvPr/>
        </p:nvGrpSpPr>
        <p:grpSpPr>
          <a:xfrm>
            <a:off x="0" y="-6480"/>
            <a:ext cx="9144000" cy="6859800"/>
            <a:chOff x="0" y="-6480"/>
            <a:chExt cx="9144000" cy="6859800"/>
          </a:xfrm>
        </p:grpSpPr>
        <p:pic>
          <p:nvPicPr>
            <p:cNvPr id="499" name="Picture 9" descr="X:\Intranet\ENGAGE\Action\WP5-Com &amp; Eur ENGAGE Campaign\5.5 Eur campaign\Presentation of ENGAGE\ENGAGE_slide2_low.jpg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44000" cy="685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2" descr="http://www.bilancarbonecampus.org/img/logo_ademe.jpg"/>
            <p:cNvPicPr/>
            <p:nvPr/>
          </p:nvPicPr>
          <p:blipFill>
            <a:blip r:embed="rId2"/>
            <a:stretch/>
          </p:blipFill>
          <p:spPr>
            <a:xfrm>
              <a:off x="6444360" y="5319360"/>
              <a:ext cx="420840" cy="46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5923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NGAGEz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55640" y="836640"/>
            <a:ext cx="424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CITOYENS ET ACTEURS LOCAUX…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4724280"/>
            <a:ext cx="91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fr-FR" sz="1600" spc="-1" strike="noStrike">
                <a:solidFill>
                  <a:srgbClr val="254061"/>
                </a:solidFill>
                <a:latin typeface="Arial"/>
              </a:rPr>
              <a:t>ET VOUS ATTEINDREZ LES OBJECTIFS DE VOT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54061"/>
                </a:solidFill>
                <a:latin typeface="Arial"/>
              </a:rPr>
              <a:t>PLAN CLIMAT-ENERG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54061"/>
                </a:solidFill>
                <a:latin typeface="Arial"/>
              </a:rPr>
              <a:t>TERRITORIA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X:\Intranet\ENGAGE\Action\WP3-ENGAGE local\3.2 Implementing the PR Campaign\Slide Show\Slide Show files\posters\Rennes.jpg"/>
          <p:cNvPicPr/>
          <p:nvPr/>
        </p:nvPicPr>
        <p:blipFill>
          <a:blip r:embed="rId1"/>
          <a:stretch/>
        </p:blipFill>
        <p:spPr>
          <a:xfrm>
            <a:off x="5505480" y="1122480"/>
            <a:ext cx="3639960" cy="5151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ffffff"/>
                </a:solidFill>
                <a:latin typeface="Arial"/>
              </a:rPr>
              <a:t>LA CAMPAGNE ENGAGE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125360"/>
            <a:ext cx="50482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Une campagne de communication 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articipative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 mise en œuvre par des villes européennes…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par laquelle citoyens et acteurs locaux s’engagent à 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construire le futur énergétique de leur ville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X:\Intranet\ENGAGE\Action\WP3-ENGAGE local\3.2 Implementing the PR Campaign\Slide Show\Slide Show files\posters\Leicester.jpg"/>
          <p:cNvPicPr/>
          <p:nvPr/>
        </p:nvPicPr>
        <p:blipFill>
          <a:blip r:embed="rId1"/>
          <a:stretch/>
        </p:blipFill>
        <p:spPr>
          <a:xfrm>
            <a:off x="324000" y="2644920"/>
            <a:ext cx="1714320" cy="242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75708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OBILISER GRACE A DES POSTERS INNOV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8000" y="1020240"/>
            <a:ext cx="8980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54061"/>
                </a:solidFill>
                <a:latin typeface="Arial"/>
              </a:rPr>
              <a:t>Un outil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cile d’utilisation </a:t>
            </a:r>
            <a:r>
              <a:rPr b="0" lang="fr-FR" sz="2800" spc="-1" strike="noStrike">
                <a:solidFill>
                  <a:srgbClr val="254061"/>
                </a:solidFill>
                <a:latin typeface="Arial"/>
              </a:rPr>
              <a:t>pour éditer des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sters personnalisés </a:t>
            </a:r>
            <a:r>
              <a:rPr b="0" lang="fr-FR" sz="2800" spc="-1" strike="noStrike">
                <a:solidFill>
                  <a:srgbClr val="254061"/>
                </a:solidFill>
                <a:latin typeface="Arial"/>
              </a:rPr>
              <a:t>présentant des engagements concrets dans le domaine de l’énergie durable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3" name="Picture 4" descr="X:\Intranet\ENGAGE\Action\WP3-ENGAGE local\3.2 Implementing the PR Campaign\Slide Show\Slide Show files\posters\Oeiras.jpg"/>
          <p:cNvPicPr/>
          <p:nvPr/>
        </p:nvPicPr>
        <p:blipFill>
          <a:blip r:embed="rId3"/>
          <a:stretch/>
        </p:blipFill>
        <p:spPr>
          <a:xfrm>
            <a:off x="3851280" y="256536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4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788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ffffff"/>
                </a:solidFill>
                <a:latin typeface="Arial"/>
              </a:rPr>
              <a:t>POURQUOI PARTICIPER A ENGAGE 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268280"/>
            <a:ext cx="8686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engager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votre autorité locale, les citoyens et acteurs locaux à réduire leur consommation énergétique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contribuer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aux objectifs « 3x20 » de l’Union européenn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prouver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que des campagnes participatives mènent à de réelles économies d’énergie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7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8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contenu 2"/>
          <p:cNvSpPr/>
          <p:nvPr/>
        </p:nvSpPr>
        <p:spPr>
          <a:xfrm>
            <a:off x="4284720" y="4508640"/>
            <a:ext cx="48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Pour valoriser les actions réalisées </a:t>
            </a:r>
            <a:r>
              <a:rPr b="0" lang="fr-FR" sz="3000" spc="-1" strike="noStrike">
                <a:solidFill>
                  <a:srgbClr val="254061"/>
                </a:solidFill>
                <a:latin typeface="Arial"/>
              </a:rPr>
              <a:t>en affichant des posters attractif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UNE APPROCHE PARTICIPATIVE EN 5 ETAPE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60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C:\Users\laura.guerin\Desktop\steps.png"/>
          <p:cNvPicPr/>
          <p:nvPr/>
        </p:nvPicPr>
        <p:blipFill>
          <a:blip r:embed="rId2"/>
          <a:stretch/>
        </p:blipFill>
        <p:spPr>
          <a:xfrm>
            <a:off x="2124000" y="692280"/>
            <a:ext cx="604836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rcRect l="13769" t="17632" r="7535" b="14085"/>
          <a:stretch/>
        </p:blipFill>
        <p:spPr>
          <a:xfrm>
            <a:off x="0" y="1890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1"/>
          <a:srcRect l="13769" t="17071" r="6977" b="11007"/>
          <a:stretch/>
        </p:blipFill>
        <p:spPr>
          <a:xfrm>
            <a:off x="-12600" y="93600"/>
            <a:ext cx="91566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e 5"/>
          <p:cNvGrpSpPr/>
          <p:nvPr/>
        </p:nvGrpSpPr>
        <p:grpSpPr>
          <a:xfrm>
            <a:off x="0" y="-6480"/>
            <a:ext cx="9144000" cy="6859800"/>
            <a:chOff x="0" y="-6480"/>
            <a:chExt cx="9144000" cy="6859800"/>
          </a:xfrm>
        </p:grpSpPr>
        <p:pic>
          <p:nvPicPr>
            <p:cNvPr id="526" name="Picture 9" descr="X:\Intranet\ENGAGE\Action\WP5-Com &amp; Eur ENGAGE Campaign\5.5 Eur campaign\Presentation of ENGAGE\ENGAGE_slide2_low.jpg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44000" cy="685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2" descr="http://www.bilancarbonecampus.org/img/logo_ademe.jpg"/>
            <p:cNvPicPr/>
            <p:nvPr/>
          </p:nvPicPr>
          <p:blipFill>
            <a:blip r:embed="rId2"/>
            <a:stretch/>
          </p:blipFill>
          <p:spPr>
            <a:xfrm>
              <a:off x="6444360" y="5319360"/>
              <a:ext cx="420840" cy="46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oneTexte 10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0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Espace réservé du contenu 9"/>
          <p:cNvSpPr/>
          <p:nvPr/>
        </p:nvSpPr>
        <p:spPr>
          <a:xfrm>
            <a:off x="0" y="115920"/>
            <a:ext cx="91774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articipez à la campag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uropéenne ENGAGE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Laura Guérin</cp:lastModifiedBy>
  <dcterms:modified xsi:type="dcterms:W3CDTF">2013-03-06T12:44:40Z</dcterms:modified>
  <cp:revision>124</cp:revision>
  <dc:subject/>
  <dc:title>Présentation PowerPoint</dc:title>
</cp:coreProperties>
</file>