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97AE-5A3C-4326-B5CC-B874556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8FBD-B179-464A-9D90-E4E72E9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031DA-D1F0-4163-98A7-849B1097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35AA-7EAC-45AD-AF0C-FF76295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D510-6920-43FA-915A-926C7D1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E88A-EA88-4AFA-AA2E-D1B352B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3755-4281-4B24-B58B-4C0CAF6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78D9-312D-4E4E-A106-797C8B01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9067-4FFA-4A70-B37D-E93ACB3D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D5AA-B1DA-470E-A7F1-DE87125E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29DC-1F5D-48EC-AB30-01BAE9E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D3E8-2032-4A91-81F0-4A760C5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DEF3-9B72-4DD7-871B-5264415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7085-B3D3-4BB0-8C30-73913D0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D082-1393-4CD5-A75B-51645FE7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15BC-8303-4CF1-BB6B-93D0BBF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5B98-1A67-4C85-BD11-AE2660F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BE9C1-5845-41B8-9F9A-EE55E098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694C-AE49-4433-8032-E9EC5D9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7C03-EEA3-4788-8C3B-607EB22C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2287-9E13-4BB9-8503-3CFFA7FD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BF9AB-A9A3-4B47-A103-6A111F7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8AF9-59A9-4BD5-88AC-9688F9B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FA735-19FE-425E-946F-AB38C6D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1214-AD14-4CF1-A982-CB7EAE9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5352B-4B17-47FD-806F-FDD07971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A54A2-8775-4110-A576-1A1B072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5792F-2D41-4961-B24F-2F49C9C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EDF41-F6A3-4B52-88CC-29F6009B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AA209-3EE2-4F70-999E-8336223D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24F82-D83F-40A5-81B6-89E80D8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C09F1-02A6-4808-A303-67D5C737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4CE3E-02F2-435A-AA90-9F06DB82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D5B4-EBBA-441F-BE50-C8F102D6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447B9-8A90-4FAF-B292-98213F54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B9F2-0E2B-4A07-BF1B-D556931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E36C-3434-4874-A052-4611F895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EF616-0B09-4689-8AA6-210F6CE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EC480-68D6-4941-B11F-A5FD1AE0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1A92A-EEC0-481C-B917-1AF0250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CA1E7-5D69-4BA3-A514-DEF18D2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1C05F-B78B-4210-9211-F7D17B1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552DF-568C-4535-942A-804019F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B8DE-F919-4C1B-9CB1-1B29093B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2EACD-F2AD-49E0-B0F7-082B54AD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345-C129-46CB-8BA9-93D0221D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7A6-83F7-4C49-AB32-BFD94B0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D44-F726-474C-8C02-C8754F0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494-A4A4-4CB5-A58B-F2A77C2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E02-ED1C-47E1-8E48-EAB656A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438-7F32-4586-B536-A050FEE4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FEA-6EC1-4788-A388-BD03942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107-D71B-4579-B44A-A8D5718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23A-7B48-4852-946E-399189D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9A-AE2C-4348-AF15-9F0FAB68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888-0925-43FB-85BF-C878E08C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3F2-075C-4C11-8B27-7376268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1610-533C-4D0C-8FD9-755A8B3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33F7-957D-4E86-A118-BD5583C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A375-363D-4693-93C5-BC3D145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3B0-00AE-4E19-8AF6-7FBF6E3C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3D0E-C075-490F-9476-1A96DE75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7CF-545F-447C-8037-E18EB21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6828-DFF5-47CB-ACDE-F7F9905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9A41-BF31-448C-B172-4C9F2C6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0921-F236-4C32-AA59-B92BE70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5C2-6FB4-4752-82A3-DFB5F43F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C964-155E-4EBA-B410-55A16D6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1A6-9077-4AEE-B69F-8B9267C8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87B5-A261-41D2-AA0F-FE0306D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7EA8-7472-4624-819B-48DF27D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DFAA-BD17-4E0B-87A7-F60E39A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11FA-B903-4EC3-91A9-8557D91A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7552-C5D3-4A58-93D3-B93DE5C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EBBB-35F9-4752-8587-376DE0F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71E5-FA90-4DDF-9F7D-249FE1C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314F-6DF1-40EA-826F-10839520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25C3-9413-4A00-94C7-3188E10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6721-EF06-4258-B6B2-5DBA146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A1A0-6D74-4158-A40D-5EF316EC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6292-D0F6-4E08-9ABC-C96E6B11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4505-15C0-43B7-87C0-FD74A16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9B0B-2D73-4094-B7D6-2D7DF2E9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DF52-19B3-4170-AF6D-10934E4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66C1-CFCA-431F-B94A-C855A66A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41D5-741F-44C9-B8A5-908E7ED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CFD4-04E5-4134-A90E-9571005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B410-76AA-4629-A9AD-DF96E36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82CB-795F-4A2B-9305-05B280A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5515-90D0-4D4B-B36E-CAA951D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834A-5831-45D3-AA05-D7437F0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4876-32A9-4F09-88D8-FFBB3A4C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97EA-BB21-40D8-85A1-33548B84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9FBC-A92C-488B-A59A-99BC0FE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6149-8C01-429E-8673-E81F904C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E20B-875B-439B-AAC4-A095FA8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7706-EF13-4F5A-B89A-3645978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7AA4-2654-498D-9DF4-B989701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F9D3-E9D5-463F-88FC-6C34505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8DBB-0A07-4E46-9DF3-8933C94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C7A86-BE5F-4777-A55B-B17438E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3FE7-F507-49B6-952B-DE9BBEE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7013-7BD8-4534-97F9-0039CD04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33E2-1DCD-4129-8AFC-A767F4DF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655A-5A48-4EBB-BBAA-D554FA2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6D17-0B1C-4D6D-A2B7-D3451E55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32C74-4747-4366-81FD-913A6533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611B-BD3D-45FC-B37C-7146FF9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5D9A-8D71-4AB7-81AA-1534AF05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4103-3A3B-4C4E-8E1A-D10D9F3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2454-1383-4B92-BC2B-8ED7B2D2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6B5E-A862-4415-ACF7-F2F2EAB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A5BA-B2F6-4C23-861F-E838D3A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83ED2-78AC-4E7D-A7F9-AF917A9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9762-AD40-4DE1-BC10-140E2AA1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7531E-38C0-43A2-8DF2-184CC287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788A-F981-4A86-B827-5EE46752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A851-1B50-4B06-81C0-BA939BAC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22732-F7F3-4731-8E2A-5F5612B1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C1F41-7B66-4A9A-AB10-A62BF12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378-DBDA-4CEB-A4C8-C9FDA6E70D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BAC-00EC-4658-BEC0-4B5B7290E3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705-6A8B-41F7-9202-1BEFD6EEE8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D99-E433-4724-BDD2-982AB52282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C25-DE71-4CFB-8B19-2881F0ABBA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2D3E-61CA-461B-8D87-E94B86E595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E804-472C-4BDF-A54A-C2BD005A61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4453-DA99-4EA1-AD53-4170A5D33A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D7D-6B42-46F6-9BB8-2661C944E4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7D0-2FDE-481F-8877-DCA1AC5486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47400" y="836640"/>
            <a:ext cx="33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GRAĐANI, INTERESNE SKUPINE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hr-HR" sz="1800" spc="-1" strike="noStrike">
                <a:solidFill>
                  <a:srgbClr val="254061"/>
                </a:solidFill>
                <a:latin typeface="Arial"/>
              </a:rPr>
              <a:t>OSTVARUJU U NAŠEM GRA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54061"/>
                </a:solidFill>
                <a:latin typeface="Arial"/>
              </a:rPr>
              <a:t>ENERGETSKE</a:t>
            </a: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 &amp; </a:t>
            </a:r>
            <a:r>
              <a:rPr b="1" lang="hr-HR" sz="2400" spc="-1" strike="noStrike">
                <a:solidFill>
                  <a:srgbClr val="254061"/>
                </a:solidFill>
                <a:latin typeface="Arial"/>
              </a:rPr>
              <a:t>KLIM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54061"/>
                </a:solidFill>
                <a:latin typeface="Arial"/>
              </a:rPr>
              <a:t>CILJEVE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JAVNI SLUŽBENICI i DR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ENGAGE </a:t>
            </a: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KAMPANJ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125000"/>
            <a:ext cx="5048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articipativn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komunikacijska inicijativa koja se provodi u europskim gradovim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…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…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obvezuj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građane, proračunsk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korisnike, udruge i drug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da odigraju svoju ulogu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     izgradnji održive   energetske budućnosti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JEDINSTVENI POSTERI POKREĆU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Jednostavna aplikacij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omogućuje izradu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ster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s osobnim izjavama za energetske ušted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ZAŠTO SUDJELOVATI U ENGAGE KAMPANJI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Traži se angažman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jedinice lokalne samouprave, građana i interesnih skupin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u postizanju energetskih ušted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oprinos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ciljevima 3x20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Europske unij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okaz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da participativna PR kampanj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vodi realnim energetskim uštedam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duzeti vidljive akcij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prikazivanjem atraktivnih post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ridružite se europskoj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NGAGE 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kampanj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Korisnik</cp:lastModifiedBy>
  <dcterms:modified xsi:type="dcterms:W3CDTF">2011-10-13T11:13:44Z</dcterms:modified>
  <cp:revision>110</cp:revision>
  <dc:subject/>
  <dc:title>Présentation PowerPoint</dc:title>
</cp:coreProperties>
</file>