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6F1CA3-6A2A-4D3F-ABBB-B44F709BD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A70AE6-817A-48BC-9799-A57A87983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6840" y="115920"/>
            <a:ext cx="6994440" cy="33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8DD348-F276-4246-A1D5-6F9BDCFF0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A0C558-2EEA-4B9E-AEB1-B5685AC49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4CF9A2-6FA4-41BF-B408-18565ABBB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6C0E58-933C-4802-BB99-264D4EA1F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2A525C-E4D5-442C-8430-8D56D4F9A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2A18AA-F43F-4E2A-83B3-1663A91EF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FBA389-7A30-4BE2-BBD4-1A706D9B7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D908CC-1115-4433-9D5D-7F2CF8EF1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56165C-0312-4018-A7EA-DEA214C25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550FF0-58CE-40D7-B3B2-1459FF809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A5C436-03C7-4869-9267-61CF7E9E8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A87408-2F89-46C2-ABD3-E0C4CFA63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6840" y="115920"/>
            <a:ext cx="6994440" cy="33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AA7186-3655-4663-A76F-DD7A33666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B2B102-5570-4457-816C-256141E95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A3018A-49CD-4E41-B0B4-50CF9E311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6C47CD-BDB9-4437-8C87-3C3E02CFA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C1FF05-7C70-4DBB-9587-13F004DDE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4568A1-4AE1-45BA-BCDA-B58BD70C5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28178C-AEA3-49B6-A2CF-48C253B00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0A0DC4-0F4E-47C1-9F35-E9BEB04BC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4A0C5F-DDD6-4939-8D48-7F942C594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60FE38-3EE9-43B6-B522-66AA41D62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8C40C0-F78F-4CC2-98A9-E3A8B72A9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EBB980-AD01-4633-88EC-F737002CE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6840" y="115920"/>
            <a:ext cx="6994440" cy="33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34AE0A-102D-400A-9E92-E10A1B6C7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469974-19E7-47FE-B74D-C45F07357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35F62B-A097-4253-9994-21C54398C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E4A76C-5300-4AFB-9FB5-B28DD1943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C42077-B0B4-4182-ABC7-EEE9A23F7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65E1EE-4F3C-474F-8801-999B4CEB8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1694B6-6358-4BFE-83A8-71145334A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84C11D-EC61-4161-8D0A-ABAF168EC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F2A18D-F6FD-4F14-B65E-E87084875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4BA9F5-FA27-4E95-8446-310DE2AAA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5786AD-C7D6-467B-9C40-21FBACF42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9F5C31-7854-4F5D-8BAD-EDEF903C0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456840" y="115920"/>
            <a:ext cx="6994440" cy="33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D90552-E900-4709-B2B2-E8B5ACCC2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AA5296-350E-44DC-B524-D7A43DD38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3C0A67-57A0-4A3C-95D1-6E80BC7F0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800562-9966-49FB-B89E-710E1BCD9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A3EA8A-A132-4516-928C-14AC5DF5A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885EFC-8025-47F6-9577-3E3FBFAB3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3964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2208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5720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3964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2208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4DE1E7-C33B-4DD9-A63F-4088CE0A4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6840" y="115920"/>
            <a:ext cx="6994440" cy="33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294A-F9C8-4F21-986D-303A75082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7DD7-F37A-41F3-AE4E-6B8D8DA6A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11FA-9EDB-4EDD-9622-AA3A31C9A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AFEB-8D17-40A2-8353-62B3BA3FE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8D55-276A-43B7-B7AD-E80E8F112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6840" y="115920"/>
            <a:ext cx="6994440" cy="33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E43D-A7BC-4099-9463-EFE0094E7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415A-9D10-4FEF-83D1-369F84DE6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AE85-FE7C-4EFC-A9F5-28F0DC8E0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3A36-4C97-4BD4-83C1-042CB8A4F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8398-2ECC-4CDA-B7D6-A56EA58F9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22C2-E6A9-41BF-9036-A2C2A1AD6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3C9B-7E47-475C-9984-184F648F8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15929-FE1E-4CCA-8A57-2F67D101F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66133-F4DA-4CF5-90B8-37E8E8F58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68C5E-F191-47CA-96FB-D504F27C9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48790-CF2A-42D7-BD4B-426326694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625BE-FB34-420D-A26A-DC3E02161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6840" y="115920"/>
            <a:ext cx="6994440" cy="33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BEDC4-B1EB-41CC-A4B5-D36E85799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71D21-3882-460B-9A93-19B01929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187A7-C54B-4AF5-9BD0-D3A7D2934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B898D-005A-46CE-852F-B36FAE962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96DB5-7CBA-4E7D-A6E7-167897796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9AEAC-9F23-4D63-8921-873BA4690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7DFB6-A1B7-42C9-8E72-18DF29D21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E3D64-95BD-45A4-935C-141B13B4F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744E1-8500-472E-8CF6-1AD891FF9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4F6FA-40A7-4369-9B3D-0E7F1C7AC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FA86F-E2F3-4BB7-A52D-3026E52A5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B98CA-35D3-4A76-B1BC-61225FAA6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6840" y="115920"/>
            <a:ext cx="6994440" cy="33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4D22F-2350-42B4-A872-297EC2F1C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A22AA-8C86-4224-A5E9-9162976F3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A9EBD-D722-4F86-A593-EC0D9839B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40056-3D3E-4E17-BED0-F6DD79986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BC81B-0434-4DC2-840A-8F76C0B28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CD780-4E3F-41BE-A857-F4A0F5B8D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6840" y="115920"/>
            <a:ext cx="6994440" cy="33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22435-B9D9-4ADE-9430-169AF0C6D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A3F51-C18F-4755-89B7-9854EBF53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D2BC5-6FFE-4C39-A625-809C7E7B4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DF004-D784-419F-8D97-54FFBA92E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B9A94-E537-448C-A8D0-C5C7A4843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65166-9D0F-4BDC-AE2E-61866F616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6840" y="115920"/>
            <a:ext cx="6994440" cy="33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C455F-68FF-4826-9E0A-0049C8396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93681-491D-49DF-83D9-A5E69A86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1BAB6-5ADB-4ADC-B8FD-8585D355B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B5E95-0892-45CA-9A93-6BC823384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81941-1894-4719-9205-9C197D707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8816A-3017-471F-92EE-1F411E754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94432-ED8A-4D87-8DEA-2AF87DDA9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C17542-2B54-4131-845C-473F95576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7B8946-74AB-4135-86EA-C010C5390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78EA25-2B27-495F-9674-0F1081BE0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55B0F-F4B0-44DC-B7ED-AC3C9E510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463EAB-463E-46D0-8C1B-A6BD5E184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6840" y="115920"/>
            <a:ext cx="6994440" cy="33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287FD5-85D6-413F-A5DC-01418C082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D6BB35-6D26-46E3-9145-3E3ED4F18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0E8212-8665-4219-8772-8EA7560EF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250F8B-6A62-41E9-BC40-9842B5BC8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EB5D86-3D23-44D7-BCF4-99C32193B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54631D-A250-48FB-9B08-F4604943B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677F35-A5FB-466A-8028-38BDADDD7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1F0B99-8B7D-4FCC-8CFA-11DE3020B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141368-ABA0-4879-B27A-735CBA566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6A29D6-BDB3-442D-9950-354154A2F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29A674-66E2-4488-B511-E5B0E9FC1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235F50-B42C-4C51-A6F0-2AFE33845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6840" y="115920"/>
            <a:ext cx="6994440" cy="33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25E76F-14F7-4443-9B4D-18BC9E0EB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CD9D80-7D81-47E8-8BB4-92DE943BB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38401F-0797-4046-84DC-EFA61C3D8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6F14A0-4FE5-435A-8728-4620F11A6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6DBBC1-9B26-4C12-8C3D-B0DF261AF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707A5B-F45A-4B06-ACC0-D2A5F71BF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313C37-62A8-4099-8DC4-48714D676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FF8B99-DA62-4D0D-A009-5949F0D02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C65F0E-6380-4F3D-85F0-D304CF6C3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B5F2E1-B9E0-4F51-87DF-CAFD5258E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pic>
        <p:nvPicPr>
          <p:cNvPr id="2" name="Picture 5" descr="X:\Intranet\ENGAGE\Action\WP5-Com &amp; Eur ENGAGE Campaign\5.1 Dvlpt graphic charter\Graphical guidelines\ENGAGE_Graphical_guidelines_files\ENGAGE_ppt_inside_updat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5" descr="X:\Intranet\ENGAGE\Action\WP5-Com &amp; Eur ENGAGE Campaign\5.1 Dvlpt graphic charter\Graphical guidelines\ENGAGE_Graphical_guidelines_files\ENGAGE_ppt_inside_upd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A1562-04B6-40A2-80AB-1AC118AF0A39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5" descr="X:\Intranet\ENGAGE\Action\WP5-Com &amp; Eur ENGAGE Campaign\5.1 Dvlpt graphic charter\Graphical guidelines\ENGAGE_Graphical_guidelines_files\ENGAGE_ppt_inside_upd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C21B0-E031-418A-8FEF-82B985E41D18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5" descr="X:\Intranet\ENGAGE\Action\WP5-Com &amp; Eur ENGAGE Campaign\5.1 Dvlpt graphic charter\Graphical guidelines\ENGAGE_Graphical_guidelines_files\ENGAGE_ppt_inside_upd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8E7E7-BD4E-4756-A77D-DD60E4E5B99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5" descr="X:\Intranet\ENGAGE\Action\WP5-Com &amp; Eur ENGAGE Campaign\5.1 Dvlpt graphic charter\Graphical guidelines\ENGAGE_Graphical_guidelines_files\ENGAGE_ppt_inside_upd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3" descr="X:\Intranet\ENGAGE\Action\WP5-Com &amp; Eur ENGAGE Campaign\5.1 Dvlpt graphic charter\Graphical guidelines\ENGAGE_Graphical_guidelines_files\ENGAGE_ppt_cover_update.jpg"/>
          <p:cNvPicPr/>
          <p:nvPr/>
        </p:nvPicPr>
        <p:blipFill>
          <a:blip r:embed="rId3"/>
          <a:stretch/>
        </p:blipFill>
        <p:spPr>
          <a:xfrm>
            <a:off x="-1440" y="0"/>
            <a:ext cx="9158040" cy="68706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X:\Intranet\ENGAGE\Action\WP5-Com &amp; Eur ENGAGE Campaign\5.1 Dvlpt graphic charter\Graphical guidelines\ENGAGE_Graphical_guidelines_files\ENGAGE_ppt_inside_upd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1CBB7-42AC-42D0-B6CF-CEC9172FF55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5" descr="X:\Intranet\ENGAGE\Action\WP5-Com &amp; Eur ENGAGE Campaign\5.1 Dvlpt graphic charter\Graphical guidelines\ENGAGE_Graphical_guidelines_files\ENGAGE_ppt_inside_upd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5663D-E4A7-401B-B76F-4F97322F093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5" descr="X:\Intranet\ENGAGE\Action\WP5-Com &amp; Eur ENGAGE Campaign\5.1 Dvlpt graphic charter\Graphical guidelines\ENGAGE_Graphical_guidelines_files\ENGAGE_ppt_inside_upd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86A80-9A90-4F4A-BFEB-EB5C7BB41E5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5" descr="X:\Intranet\ENGAGE\Action\WP5-Com &amp; Eur ENGAGE Campaign\5.1 Dvlpt graphic charter\Graphical guidelines\ENGAGE_Graphical_guidelines_files\ENGAGE_ppt_inside_upd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53907-33FA-4BD5-BC96-76F57706BEF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5" descr="X:\Intranet\ENGAGE\Action\WP5-Com &amp; Eur ENGAGE Campaign\5.1 Dvlpt graphic charter\Graphical guidelines\ENGAGE_Graphical_guidelines_files\ENGAGE_ppt_inside_upd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740DF-7D3B-40FC-B32F-5B494970C32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5" descr="X:\Intranet\ENGAGE\Action\WP5-Com &amp; Eur ENGAGE Campaign\5.1 Dvlpt graphic charter\Graphical guidelines\ENGAGE_Graphical_guidelines_files\ENGAGE_ppt_inside_upd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6C3A1-DC96-4A9D-8024-80F60B40963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5" descr="X:\Intranet\ENGAGE\Action\WP5-Com &amp; Eur ENGAGE Campaign\5.1 Dvlpt graphic charter\Graphical guidelines\ENGAGE_Graphical_guidelines_files\ENGAGE_ppt_inside_upd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21C79-0927-49E5-AB78-3D62D385A93B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9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9" descr="X:\Intranet\ENGAGE\Action\WP5-Com &amp; Eur ENGAGE Campaign\5.5 Eur campaign\Presentation of ENGAGE\ENGAGE_slide2_low.jpg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59800"/>
          </a:xfrm>
          <a:prstGeom prst="rect">
            <a:avLst/>
          </a:prstGeom>
          <a:ln w="0">
            <a:noFill/>
          </a:ln>
        </p:spPr>
      </p:pic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78920" y="85680"/>
            <a:ext cx="224316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54061"/>
                </a:solidFill>
                <a:latin typeface="Arial"/>
              </a:rPr>
              <a:t>ENGAG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1247400" y="836640"/>
            <a:ext cx="3311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GRAĐANI, INTERESNE SKUPINE</a:t>
            </a:r>
            <a:endParaRPr b="0" lang="en-US" sz="18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02" name="Espace réservé du contenu 9"/>
          <p:cNvSpPr/>
          <p:nvPr/>
        </p:nvSpPr>
        <p:spPr>
          <a:xfrm>
            <a:off x="755640" y="4797360"/>
            <a:ext cx="838836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54061"/>
                </a:solidFill>
                <a:latin typeface="Arial"/>
              </a:rPr>
              <a:t>… </a:t>
            </a:r>
            <a:r>
              <a:rPr b="1" lang="hr-HR" sz="1800" spc="-1" strike="noStrike">
                <a:solidFill>
                  <a:srgbClr val="254061"/>
                </a:solidFill>
                <a:latin typeface="Arial"/>
              </a:rPr>
              <a:t>OSTVARUJU U NAŠEM GRAD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254061"/>
                </a:solidFill>
                <a:latin typeface="Arial"/>
              </a:rPr>
              <a:t>ENERGETSKE</a:t>
            </a:r>
            <a:r>
              <a:rPr b="1" lang="en-GB" sz="2400" spc="-1" strike="noStrike">
                <a:solidFill>
                  <a:srgbClr val="254061"/>
                </a:solidFill>
                <a:latin typeface="Arial"/>
              </a:rPr>
              <a:t> &amp; </a:t>
            </a:r>
            <a:r>
              <a:rPr b="1" lang="hr-HR" sz="2400" spc="-1" strike="noStrike">
                <a:solidFill>
                  <a:srgbClr val="254061"/>
                </a:solidFill>
                <a:latin typeface="Arial"/>
              </a:rPr>
              <a:t>KLIMATSK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254061"/>
                </a:solidFill>
                <a:latin typeface="Arial"/>
              </a:rPr>
              <a:t>CILJEVE</a:t>
            </a:r>
            <a:r>
              <a:rPr b="1" lang="en-GB" sz="1800" spc="-1" strike="noStrike">
                <a:solidFill>
                  <a:srgbClr val="254061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Espace réservé du contenu 9"/>
          <p:cNvSpPr/>
          <p:nvPr/>
        </p:nvSpPr>
        <p:spPr>
          <a:xfrm>
            <a:off x="0" y="6093000"/>
            <a:ext cx="9144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ww.citiesengage.e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Rectangle 11"/>
          <p:cNvSpPr/>
          <p:nvPr/>
        </p:nvSpPr>
        <p:spPr>
          <a:xfrm>
            <a:off x="5508720" y="836640"/>
            <a:ext cx="36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JAVNI SLUŽBENICI i DRUG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7570800" cy="7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ffffff"/>
                </a:solidFill>
                <a:latin typeface="Arial"/>
              </a:rPr>
              <a:t>ENGAGE </a:t>
            </a:r>
            <a:r>
              <a:rPr b="1" lang="hr-HR" sz="3500" spc="-1" strike="noStrike">
                <a:solidFill>
                  <a:srgbClr val="ffffff"/>
                </a:solidFill>
                <a:latin typeface="Arial"/>
              </a:rPr>
              <a:t>KAMPANJA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456840" y="1125000"/>
            <a:ext cx="50482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-56052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ffffff"/>
                </a:solidFill>
                <a:latin typeface="Arial"/>
              </a:rPr>
              <a:t>Participativna</a:t>
            </a:r>
            <a:endParaRPr b="0" lang="en-US" sz="3000" spc="-1" strike="noStrike">
              <a:solidFill>
                <a:srgbClr val="254061"/>
              </a:solidFill>
              <a:latin typeface="Arial"/>
            </a:endParaRPr>
          </a:p>
          <a:p>
            <a:pPr marL="560520" indent="-5605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254061"/>
                </a:solidFill>
                <a:latin typeface="Arial"/>
              </a:rPr>
              <a:t>	</a:t>
            </a:r>
            <a:r>
              <a:rPr b="0" lang="hr-HR" sz="3000" spc="-1" strike="noStrike">
                <a:solidFill>
                  <a:srgbClr val="254061"/>
                </a:solidFill>
                <a:latin typeface="Arial"/>
              </a:rPr>
              <a:t>komunikacijska inicijativa koja se provodi u europskim gradovima</a:t>
            </a:r>
            <a:r>
              <a:rPr b="0" lang="en-GB" sz="3000" spc="-1" strike="noStrike">
                <a:solidFill>
                  <a:srgbClr val="254061"/>
                </a:solidFill>
                <a:latin typeface="Arial"/>
              </a:rPr>
              <a:t> … </a:t>
            </a:r>
            <a:endParaRPr b="0" lang="en-US" sz="3000" spc="-1" strike="noStrike">
              <a:solidFill>
                <a:srgbClr val="254061"/>
              </a:solidFill>
              <a:latin typeface="Arial"/>
            </a:endParaRPr>
          </a:p>
          <a:p>
            <a:pPr marL="560520" indent="-56052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254061"/>
                </a:solidFill>
                <a:latin typeface="Arial"/>
              </a:rPr>
              <a:t>…</a:t>
            </a:r>
            <a:r>
              <a:rPr b="0" lang="hr-HR" sz="3000" spc="-1" strike="noStrike">
                <a:solidFill>
                  <a:srgbClr val="254061"/>
                </a:solidFill>
                <a:latin typeface="Arial"/>
              </a:rPr>
              <a:t>obvezuje</a:t>
            </a:r>
            <a:r>
              <a:rPr b="0" lang="en-GB" sz="3000" spc="-1" strike="noStrike">
                <a:solidFill>
                  <a:srgbClr val="254061"/>
                </a:solidFill>
                <a:latin typeface="Arial"/>
              </a:rPr>
              <a:t> </a:t>
            </a:r>
            <a:r>
              <a:rPr b="0" lang="hr-HR" sz="3000" spc="-1" strike="noStrike">
                <a:solidFill>
                  <a:srgbClr val="254061"/>
                </a:solidFill>
                <a:latin typeface="Arial"/>
              </a:rPr>
              <a:t>građane, proračunske</a:t>
            </a:r>
            <a:r>
              <a:rPr b="0" lang="en-GB" sz="3000" spc="-1" strike="noStrike">
                <a:solidFill>
                  <a:srgbClr val="254061"/>
                </a:solidFill>
                <a:latin typeface="Arial"/>
              </a:rPr>
              <a:t> </a:t>
            </a:r>
            <a:r>
              <a:rPr b="0" lang="hr-HR" sz="3000" spc="-1" strike="noStrike">
                <a:solidFill>
                  <a:srgbClr val="254061"/>
                </a:solidFill>
                <a:latin typeface="Arial"/>
              </a:rPr>
              <a:t>korisnike, udruge i druge</a:t>
            </a:r>
            <a:r>
              <a:rPr b="0" lang="en-GB" sz="3000" spc="-1" strike="noStrike">
                <a:solidFill>
                  <a:srgbClr val="254061"/>
                </a:solidFill>
                <a:latin typeface="Arial"/>
              </a:rPr>
              <a:t> </a:t>
            </a:r>
            <a:r>
              <a:rPr b="0" lang="hr-HR" sz="3000" spc="-1" strike="noStrike">
                <a:solidFill>
                  <a:srgbClr val="254061"/>
                </a:solidFill>
                <a:latin typeface="Arial"/>
              </a:rPr>
              <a:t>da odigraju svoju ulogu</a:t>
            </a:r>
            <a:r>
              <a:rPr b="0" lang="en-GB" sz="3000" spc="-1" strike="noStrike">
                <a:solidFill>
                  <a:srgbClr val="254061"/>
                </a:solidFill>
                <a:latin typeface="Arial"/>
              </a:rPr>
              <a:t> </a:t>
            </a:r>
            <a:r>
              <a:rPr b="0" lang="hr-HR" sz="3000" spc="-1" strike="noStrike">
                <a:solidFill>
                  <a:srgbClr val="ffffff"/>
                </a:solidFill>
                <a:latin typeface="Arial"/>
              </a:rPr>
              <a:t>u </a:t>
            </a:r>
            <a:r>
              <a:rPr b="0" lang="hr-HR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3000" spc="-1" strike="noStrike">
                <a:solidFill>
                  <a:srgbClr val="ffffff"/>
                </a:solidFill>
                <a:latin typeface="Arial"/>
              </a:rPr>
              <a:t>      izgradnji održive   energetske budućnosti</a:t>
            </a:r>
            <a:r>
              <a:rPr b="0" lang="en-GB" sz="3000" spc="-1" strike="noStrike">
                <a:solidFill>
                  <a:srgbClr val="254061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254061"/>
              </a:solidFill>
              <a:latin typeface="Arial"/>
            </a:endParaRPr>
          </a:p>
          <a:p>
            <a:pPr marL="560520" indent="-56052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54061"/>
              </a:solidFill>
              <a:latin typeface="Arial"/>
            </a:endParaRPr>
          </a:p>
          <a:p>
            <a:pPr marL="560520" indent="-560520"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54061"/>
              </a:solidFill>
              <a:latin typeface="Arial"/>
            </a:endParaRPr>
          </a:p>
        </p:txBody>
      </p:sp>
      <p:pic>
        <p:nvPicPr>
          <p:cNvPr id="507" name="Picture 3" descr="X:\Intranet\ENGAGE\Action\WP3-ENGAGE local\3.2 Implementing the PR Campaign\Slide Show\Slide Show files\posters\Leicester.jpg"/>
          <p:cNvPicPr/>
          <p:nvPr/>
        </p:nvPicPr>
        <p:blipFill>
          <a:blip r:embed="rId5"/>
          <a:stretch/>
        </p:blipFill>
        <p:spPr>
          <a:xfrm>
            <a:off x="5505480" y="1125360"/>
            <a:ext cx="3638520" cy="5148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7570800" cy="7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500" spc="-1" strike="noStrike">
                <a:solidFill>
                  <a:srgbClr val="ffffff"/>
                </a:solidFill>
                <a:latin typeface="Arial"/>
              </a:rPr>
              <a:t>JEDINSTVENI POSTERI POKREĆU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456840" y="1052640"/>
            <a:ext cx="84358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ffffff"/>
                </a:solidFill>
                <a:latin typeface="Arial"/>
              </a:rPr>
              <a:t>Jednostavna aplikacija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3000" spc="-1" strike="noStrike">
                <a:solidFill>
                  <a:srgbClr val="254061"/>
                </a:solidFill>
                <a:latin typeface="Arial"/>
              </a:rPr>
              <a:t>omogućuje izradu</a:t>
            </a:r>
            <a:r>
              <a:rPr b="0" lang="en-GB" sz="3000" spc="-1" strike="noStrike">
                <a:solidFill>
                  <a:srgbClr val="254061"/>
                </a:solidFill>
                <a:latin typeface="Arial"/>
              </a:rPr>
              <a:t> </a:t>
            </a:r>
            <a:r>
              <a:rPr b="0" lang="hr-HR" sz="3000" spc="-1" strike="noStrike">
                <a:solidFill>
                  <a:srgbClr val="ffffff"/>
                </a:solidFill>
                <a:latin typeface="Arial"/>
              </a:rPr>
              <a:t>postera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3000" spc="-1" strike="noStrike">
                <a:solidFill>
                  <a:srgbClr val="254061"/>
                </a:solidFill>
                <a:latin typeface="Arial"/>
              </a:rPr>
              <a:t>s osobnim izjavama za energetske uštede</a:t>
            </a:r>
            <a:endParaRPr b="0" lang="en-US" sz="3000" spc="-1" strike="noStrike">
              <a:solidFill>
                <a:srgbClr val="254061"/>
              </a:solidFill>
              <a:latin typeface="Arial"/>
            </a:endParaRPr>
          </a:p>
        </p:txBody>
      </p:sp>
      <p:pic>
        <p:nvPicPr>
          <p:cNvPr id="510" name="Picture 4" descr="X:\Intranet\ENGAGE\Action\WP3-ENGAGE local\3.2 Implementing the PR Campaign\Slide Show\Slide Show files\posters\Oeiras.jpg"/>
          <p:cNvPicPr/>
          <p:nvPr/>
        </p:nvPicPr>
        <p:blipFill>
          <a:blip r:embed="rId2"/>
          <a:stretch/>
        </p:blipFill>
        <p:spPr>
          <a:xfrm>
            <a:off x="3851280" y="2281320"/>
            <a:ext cx="5292720" cy="37400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11" name="Picture 7" descr="X:\Intranet\ENGAGE\Action\WP3-ENGAGE local\3.2 Implementing the PR Campaign\Slide Show\Slide Show files\posters\Rennes.jpg"/>
          <p:cNvPicPr/>
          <p:nvPr/>
        </p:nvPicPr>
        <p:blipFill>
          <a:blip r:embed="rId3"/>
          <a:stretch/>
        </p:blipFill>
        <p:spPr>
          <a:xfrm>
            <a:off x="324000" y="2643120"/>
            <a:ext cx="1714320" cy="24274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12" name="Picture 8" descr="X:\Intranet\ENGAGE\Action\WP3-ENGAGE local\3.2 Implementing the PR Campaign\Slide Show\Slide Show files\posters\Växjö.jpg"/>
          <p:cNvPicPr/>
          <p:nvPr/>
        </p:nvPicPr>
        <p:blipFill>
          <a:blip r:embed="rId4"/>
          <a:stretch/>
        </p:blipFill>
        <p:spPr>
          <a:xfrm>
            <a:off x="2224080" y="3505320"/>
            <a:ext cx="1422360" cy="20113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5788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500" spc="-1" strike="noStrike">
                <a:solidFill>
                  <a:srgbClr val="ffffff"/>
                </a:solidFill>
                <a:latin typeface="Arial"/>
              </a:rPr>
              <a:t>ZAŠTO SUDJELOVATI U ENGAGE KAMPANJI?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457200" y="1417320"/>
            <a:ext cx="8507520" cy="32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ffffff"/>
                </a:solidFill>
                <a:latin typeface="Arial"/>
              </a:rPr>
              <a:t>Traži se angažman</a:t>
            </a:r>
            <a:r>
              <a:rPr b="0" lang="en-GB" sz="3000" spc="-1" strike="noStrike">
                <a:solidFill>
                  <a:srgbClr val="254061"/>
                </a:solidFill>
                <a:latin typeface="Arial"/>
              </a:rPr>
              <a:t> </a:t>
            </a:r>
            <a:r>
              <a:rPr b="0" lang="hr-HR" sz="3000" spc="-1" strike="noStrike">
                <a:solidFill>
                  <a:srgbClr val="254061"/>
                </a:solidFill>
                <a:latin typeface="Arial"/>
              </a:rPr>
              <a:t>jedinice lokalne samouprave, građana i interesnih skupina</a:t>
            </a:r>
            <a:r>
              <a:rPr b="0" lang="en-GB" sz="3000" spc="-1" strike="noStrike">
                <a:solidFill>
                  <a:srgbClr val="254061"/>
                </a:solidFill>
                <a:latin typeface="Arial"/>
              </a:rPr>
              <a:t> </a:t>
            </a:r>
            <a:r>
              <a:rPr b="0" lang="hr-HR" sz="3000" spc="-1" strike="noStrike">
                <a:solidFill>
                  <a:srgbClr val="254061"/>
                </a:solidFill>
                <a:latin typeface="Arial"/>
              </a:rPr>
              <a:t>u postizanju energetskih ušteda</a:t>
            </a:r>
            <a:endParaRPr b="0" lang="en-US" sz="30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ffffff"/>
                </a:solidFill>
                <a:latin typeface="Arial"/>
              </a:rPr>
              <a:t>Doprinos </a:t>
            </a:r>
            <a:r>
              <a:rPr b="0" lang="hr-HR" sz="3000" spc="-1" strike="noStrike">
                <a:solidFill>
                  <a:srgbClr val="254061"/>
                </a:solidFill>
                <a:latin typeface="Arial"/>
              </a:rPr>
              <a:t>ciljevima 3x20</a:t>
            </a:r>
            <a:r>
              <a:rPr b="0" lang="en-GB" sz="3000" spc="-1" strike="noStrike">
                <a:solidFill>
                  <a:srgbClr val="254061"/>
                </a:solidFill>
                <a:latin typeface="Arial"/>
              </a:rPr>
              <a:t> </a:t>
            </a:r>
            <a:r>
              <a:rPr b="0" lang="hr-HR" sz="3000" spc="-1" strike="noStrike">
                <a:solidFill>
                  <a:srgbClr val="254061"/>
                </a:solidFill>
                <a:latin typeface="Arial"/>
              </a:rPr>
              <a:t>Europske unije</a:t>
            </a:r>
            <a:endParaRPr b="0" lang="en-US" sz="30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ffffff"/>
                </a:solidFill>
                <a:latin typeface="Arial"/>
              </a:rPr>
              <a:t>Dokaz </a:t>
            </a:r>
            <a:r>
              <a:rPr b="0" lang="en-GB" sz="3000" spc="-1" strike="noStrike">
                <a:solidFill>
                  <a:srgbClr val="254061"/>
                </a:solidFill>
                <a:latin typeface="Arial"/>
              </a:rPr>
              <a:t> </a:t>
            </a:r>
            <a:r>
              <a:rPr b="0" lang="hr-HR" sz="3000" spc="-1" strike="noStrike">
                <a:solidFill>
                  <a:srgbClr val="254061"/>
                </a:solidFill>
                <a:latin typeface="Arial"/>
              </a:rPr>
              <a:t>da participativna PR kampanja</a:t>
            </a:r>
            <a:r>
              <a:rPr b="0" lang="en-GB" sz="3000" spc="-1" strike="noStrike">
                <a:solidFill>
                  <a:srgbClr val="254061"/>
                </a:solidFill>
                <a:latin typeface="Arial"/>
              </a:rPr>
              <a:t> </a:t>
            </a:r>
            <a:r>
              <a:rPr b="0" lang="hr-HR" sz="3000" spc="-1" strike="noStrike">
                <a:solidFill>
                  <a:srgbClr val="254061"/>
                </a:solidFill>
                <a:latin typeface="Arial"/>
              </a:rPr>
              <a:t>vodi realnim energetskim uštedama</a:t>
            </a:r>
            <a:endParaRPr b="0" lang="en-US" sz="3000" spc="-1" strike="noStrike">
              <a:solidFill>
                <a:srgbClr val="254061"/>
              </a:solidFill>
              <a:latin typeface="Arial"/>
            </a:endParaRPr>
          </a:p>
        </p:txBody>
      </p:sp>
      <p:pic>
        <p:nvPicPr>
          <p:cNvPr id="515" name="Picture 6" descr="http://a4.sphotos.ak.fbcdn.net/hphotos-ak-snc6/249700_123893281026369_100002170929296_185887_7770965_n.jpg"/>
          <p:cNvPicPr/>
          <p:nvPr/>
        </p:nvPicPr>
        <p:blipFill>
          <a:blip r:embed="rId4"/>
          <a:stretch/>
        </p:blipFill>
        <p:spPr>
          <a:xfrm>
            <a:off x="0" y="4630680"/>
            <a:ext cx="4299120" cy="18129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516" name="ZoneTexte 4"/>
          <p:cNvSpPr/>
          <p:nvPr/>
        </p:nvSpPr>
        <p:spPr>
          <a:xfrm>
            <a:off x="-52560" y="6245280"/>
            <a:ext cx="1152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© City of Pamplon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Espace réservé du contenu 2"/>
          <p:cNvSpPr/>
          <p:nvPr/>
        </p:nvSpPr>
        <p:spPr>
          <a:xfrm>
            <a:off x="4427640" y="4645080"/>
            <a:ext cx="439236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ffffff"/>
                </a:solidFill>
                <a:latin typeface="Arial"/>
              </a:rPr>
              <a:t>Poduzeti vidljive akcije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hr-HR" sz="3000" spc="-1" strike="noStrike">
                <a:solidFill>
                  <a:srgbClr val="254061"/>
                </a:solidFill>
                <a:latin typeface="Arial"/>
              </a:rPr>
              <a:t>prikazivanjem atraktivnih poster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Picture 9" descr="X:\Intranet\ENGAGE\Action\WP5-Com &amp; Eur ENGAGE Campaign\5.5 Eur campaign\Presentation of ENGAGE\ENGAGE_slide2_low.jpg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59800"/>
          </a:xfrm>
          <a:prstGeom prst="rect">
            <a:avLst/>
          </a:prstGeom>
          <a:ln w="0">
            <a:noFill/>
          </a:ln>
        </p:spPr>
      </p:pic>
      <p:sp>
        <p:nvSpPr>
          <p:cNvPr id="519" name="Espace réservé du contenu 9"/>
          <p:cNvSpPr/>
          <p:nvPr/>
        </p:nvSpPr>
        <p:spPr>
          <a:xfrm>
            <a:off x="0" y="6093000"/>
            <a:ext cx="9144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ww.citiesengage.e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Espace réservé du contenu 9"/>
          <p:cNvSpPr/>
          <p:nvPr/>
        </p:nvSpPr>
        <p:spPr>
          <a:xfrm>
            <a:off x="0" y="260280"/>
            <a:ext cx="917748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ff"/>
                </a:solidFill>
                <a:latin typeface="Arial"/>
              </a:rPr>
              <a:t>Pridružite se europskoj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ENGAGE </a:t>
            </a:r>
            <a:r>
              <a:rPr b="1" lang="hr-HR" sz="3200" spc="-1" strike="noStrike">
                <a:solidFill>
                  <a:srgbClr val="ffffff"/>
                </a:solidFill>
                <a:latin typeface="Arial"/>
              </a:rPr>
              <a:t>kampanji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ZoneTexte 1"/>
          <p:cNvSpPr/>
          <p:nvPr/>
        </p:nvSpPr>
        <p:spPr>
          <a:xfrm>
            <a:off x="-33480" y="4830840"/>
            <a:ext cx="9177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54061"/>
                </a:solidFill>
                <a:latin typeface="Arial"/>
              </a:rPr>
              <a:t>CONTACT – Ian Turn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54061"/>
                </a:solidFill>
                <a:latin typeface="Arial"/>
              </a:rPr>
              <a:t>www.energy-cities.eu/ia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54061"/>
                </a:solidFill>
                <a:latin typeface="Arial"/>
              </a:rPr>
              <a:t>+33 81 65 37 9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7T11:51:23Z</dcterms:created>
  <dc:creator>Rohan Guyot-Sutherland</dc:creator>
  <dc:description/>
  <dc:language>en-US</dc:language>
  <cp:lastModifiedBy>Korisnik</cp:lastModifiedBy>
  <dcterms:modified xsi:type="dcterms:W3CDTF">2011-10-13T11:13:44Z</dcterms:modified>
  <cp:revision>110</cp:revision>
  <dc:subject/>
  <dc:title>Présentation PowerPoint</dc:title>
</cp:coreProperties>
</file>