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3EDD-2641-4A00-A5C8-545220EE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F6E65-574E-461E-AD5D-F4EDD33F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76E31-A59C-402B-9307-E1DBCE69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AC7CC-88ED-43B4-8F0A-2A6C8DED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C7F10-02AC-4D13-AD79-2A949500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29668-AD7D-4CFA-907E-4B189CF8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BE103-434D-4BDF-9E94-3E5745C9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05108-5D3D-4C9C-8F19-EF8CDF99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29D21-6784-4A6E-A21F-59A12B66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B2286-1707-42EE-BDAF-E123ABAB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292EB-E057-4B5E-A24E-03030186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29C9C-D536-4EB3-A9F0-8EC2B84F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A34B7-9255-4F7D-BE53-4868CB6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FAF94-920B-4C00-B88E-653C81ED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D0DD-E0E6-449C-8B28-1597D3E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149CA-8AD8-40D3-9122-4B0CEC5E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BD3FE-2D2A-479E-93B5-74B9A5A1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808A7-B2CC-464C-923F-5838F789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B9F82-7B7A-475F-9454-4E420990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90116-65E0-44F4-A6C4-DF4752C7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11AFB-7645-4C7D-9813-89BC454B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027F7-D015-40AB-8780-B2C08A98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49424-C528-43A7-98DA-C85C9DA7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E38EC-6882-43E3-B14F-64E4B034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44980-A23C-48BB-BEE2-943A0A5D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E7BC5-4A07-4A9B-AB76-389E7985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F4446-DC7C-4FBE-93F9-F71A7AA1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A0F1E-F5A4-48E3-A455-696F2A54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7F3DD-5195-44FA-B403-5C426293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8BE1D-9D81-4337-8E1A-63E9B7FC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B482C-7B6F-45EF-81E2-04D952E8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F1F76-6965-485B-8B63-48EDCCF0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8B8DF-088D-48D8-A6DB-F1DE7A9B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097A4-4EE9-46D6-8DBF-FD0FE3BE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6EDD1-E27A-401B-9F44-A833FFDD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D1FCA-E240-454A-B891-CBD47AAA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3880C-902B-49D8-8655-03B0CD06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23752-9DED-4896-9993-009117F9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B9A0A-9784-4FAB-8D6E-B4D211F5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C6854-8786-4813-B134-44768316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D31D1-4577-4479-8EFF-06D84153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7E3B1-83D6-4127-B89E-2AA8C95B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A4D76-5B89-4F05-B8E5-54EBFCB8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4DB20-7F62-4E22-8ABC-180BE28D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97E5E-7CBE-4252-A2CB-38C0EBB0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BE3-0AE2-462F-A24B-29B03D20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668-61FC-4932-846C-8654FE18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6E0-B9F9-4C16-B13B-4BDEB740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E20-B672-4D5E-AFF4-62A264D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54B-0DB2-4142-9159-645BFF6C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A03-C227-44AD-8616-1668535A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4C5-1AE0-46DB-B352-81FAB1B5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E37-3B35-4698-8ED1-5EB1D88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83A-60C8-4DBE-BACB-E381F732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761-0A5F-4408-8FE5-5207B9CF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EA5-0BE6-48CB-BD89-5DD3E955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87F-E6C2-4087-9ADB-5141D5EF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8F02-4234-4697-98F1-9D1E9ADA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26C3-FC87-42F2-8F3B-64CD3C10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C718-B966-47AE-BA96-2628DAC8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6E14-0D0B-438A-89A8-8B1B2A6B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E5B0-5EAC-4BFA-A61E-976B188F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206A-2B9D-4FF4-8C29-1B22508C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A82C-D444-47D9-86E3-2DD76161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E189-D44D-4E25-ABAD-60050DCF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5DE1-2A42-4D56-974A-3853487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E05-1673-43D3-B27A-1DE557EB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F3E0-22F2-484D-BFBF-D6CB966C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F0BE-9AE9-47A4-BB8B-6C69FC7E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927B-F9BC-4659-98FB-41207244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91C0-3D78-47BA-94C4-45EE7125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9E62-E423-45EB-A4A2-CEB4051B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8EBD-F032-4340-91E0-C8A18149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989C-F738-4588-8F5C-574A952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6840-A0FF-46EA-853F-D6438CA1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2F5A-C935-4137-9F94-B57EF867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4949-4396-4C61-94D5-A1D0C204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3B03-0F8F-4BA3-936D-C9574369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D10DE-7E27-41CE-BDF9-15F41E10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5FA4-A116-4354-BD78-B0206999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5DB2A-85C8-42CF-96BE-896B30E0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8CC1-C18C-431B-B6A5-454E9E4B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617D9-4EFA-4BB4-94BC-42E64CF7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EF98-DFF3-477E-9F0C-0ECF87A8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C2D53-2C08-45AB-97DC-E8DE3228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C15A-5BD9-4B2A-902B-F7129039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ADCC-384F-4F63-8D99-3D8ECDCB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F107-5841-4DF4-A288-C211A1FB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2F04B-8C4F-499A-8ACD-C6B8197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17A1-AEB4-446D-A5D4-8219DFCD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2D75-5458-45D3-9907-26980801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8DE43-04FC-497A-9B3C-0C47FC74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7ABC2-45E6-4CB4-8197-78BC2E0D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1123-865F-4CCE-82E6-903D1795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FAE38-1551-44B3-86D1-3DFEFEAB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4904C-9BE9-4BDC-80EB-B56627B3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92979-F887-4DB6-8CF9-40D8AB5F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7B3B5-7407-4C1F-82EF-36C18BBF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35CD6-8D71-4C0A-9452-E5C134B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37AC-65B4-4B13-9053-D0EF6B2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29B8-FB9F-4C0F-9CD4-9F1B1936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F9A11-140E-40C6-81FB-8EE9E2C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56584-A9DD-4059-9BBD-B98771C7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98849-D693-4A67-81C2-9CFA6902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46FD6-EC0D-4960-8829-FC15CC97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D2F35-C4F5-41D5-ACF1-99E0D236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A6F24-585B-4467-ACB6-E9FCE87F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7A10-F985-4BD0-BA5C-FDEE4E66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983C9-ECD8-4F28-A2B8-036C3178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CA2A-9F28-4303-97D1-C2FEC15A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758B-478E-413B-8C89-D2223A03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174AE-87E9-483A-9AAB-00E8CF28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0E708-6637-4BC6-BB6A-9E03F311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E827-30E1-462E-AF83-E63D4041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8A31C-A118-4D7C-9C04-C097F770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D6C58-EA7F-4D2B-B9B0-396BFC86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4C91B-FCD5-4979-9767-23AA6535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E5B9B-B276-40AB-AF0D-6B9C6AC4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B4B61-CBA1-4353-A35F-DBF12FC5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3F1DE-4561-4F8F-A90C-D6903592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CE0-440F-4390-A0F6-82334280BF6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989F-F627-402D-8B70-CD7E955BBD0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5D97-6F08-49B5-B722-21E581C9396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X:\Intranet\ENGAGE\Action\WP5-Com &amp; Eur ENGAGE Campaign\5.1 Dvlpt graphic charter\Graphical guidelines\ENGAGE_Graphical_guidelines_files\ENGAGE_ppt_cover_update.jpg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9DE4-F655-4129-82A9-5E74EAC53FD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7659-B786-4661-8F15-CBFAE4AEEC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047B-5F3B-4D46-BA5B-A4B669E900B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5C87-B6AC-4E78-AE20-BE21C8EC0C5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0E31-D107-49D9-A55A-1481AFFA5F0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8BE1-DE23-4DEB-BCF6-3CDDFAE278E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E8A2-106F-43AA-9A72-1B3C3E7B04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12600"/>
            <a:ext cx="9323280" cy="6994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8920" y="85680"/>
            <a:ext cx="22431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54061"/>
                </a:solidFill>
                <a:latin typeface="Arial"/>
              </a:rPr>
              <a:t>ENG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5280" y="806040"/>
            <a:ext cx="44640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TTADINI, PORTATORI DI INTERESSE, 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02" name="Espace réservé du contenu 9"/>
          <p:cNvSpPr/>
          <p:nvPr/>
        </p:nvSpPr>
        <p:spPr>
          <a:xfrm>
            <a:off x="0" y="4876920"/>
            <a:ext cx="9323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E RAGGIUNGIATE GLI OBIETTI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4061"/>
                </a:solidFill>
                <a:latin typeface="Arial"/>
              </a:rPr>
              <a:t>SU ENERGIA &amp; CL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DELLA VOSTRA CITT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5940360" y="806400"/>
            <a:ext cx="363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PENDENTI PUBBLI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 TANTI ALTRI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LA CAMPAGNA ENGAG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560" y="1125000"/>
            <a:ext cx="5113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54061"/>
                </a:solidFill>
                <a:latin typeface="Arial"/>
              </a:rPr>
              <a:t>Un’iniziativa partecipativa di communicazione realizzata da città </a:t>
            </a:r>
            <a:r>
              <a:rPr b="0" lang="it-IT" sz="3200" spc="-1" strike="noStrike">
                <a:solidFill>
                  <a:srgbClr val="254061"/>
                </a:solidFill>
                <a:latin typeface="Arial"/>
              </a:rPr>
              <a:t>europee</a:t>
            </a:r>
            <a:r>
              <a:rPr b="0" lang="en-GB" sz="3200" spc="-1" strike="noStrike">
                <a:solidFill>
                  <a:srgbClr val="254061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54061"/>
                </a:solidFill>
                <a:latin typeface="Arial"/>
              </a:rPr>
              <a:t>che impegnano i cittadini ed i portatori di interesse a partecipare alla costruzione di u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turo energetico sostenibile</a:t>
            </a:r>
            <a:r>
              <a:rPr b="0" lang="en-GB" sz="32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07" name="Picture 3" descr="X:\Intranet\ENGAGE\Action\WP3-ENGAGE local\3.2 Implementing the PR Campaign\Slide Show\Slide Show files\posters\Leicester.jpg"/>
          <p:cNvPicPr/>
          <p:nvPr/>
        </p:nvPicPr>
        <p:blipFill>
          <a:blip r:embed="rId5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POSTER UNICI PER MOBILITAR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20400" y="83664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Uno strumento facile da usare per creare poster fatti su misura con impegni personali in favore dell’energia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0" name="Picture 4" descr="X:\Intranet\ENGAGE\Action\WP3-ENGAGE local\3.2 Implementing the PR Campaign\Slide Show\Slide Show files\posters\Oeiras.jpg"/>
          <p:cNvPicPr/>
          <p:nvPr/>
        </p:nvPicPr>
        <p:blipFill>
          <a:blip r:embed="rId2"/>
          <a:stretch/>
        </p:blipFill>
        <p:spPr>
          <a:xfrm>
            <a:off x="3851280" y="2281320"/>
            <a:ext cx="5292720" cy="3740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1" name="Picture 7" descr="X:\Intranet\ENGAGE\Action\WP3-ENGAGE local\3.2 Implementing the PR Campaign\Slide Show\Slide Show files\posters\Rennes.jpg"/>
          <p:cNvPicPr/>
          <p:nvPr/>
        </p:nvPicPr>
        <p:blipFill>
          <a:blip r:embed="rId3"/>
          <a:stretch/>
        </p:blipFill>
        <p:spPr>
          <a:xfrm>
            <a:off x="324000" y="2643120"/>
            <a:ext cx="1714320" cy="2427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2" name="Picture 8" descr="X:\Intranet\ENGAGE\Action\WP3-ENGAGE local\3.2 Implementing the PR Campaign\Slide Show\Slide Show files\posters\Växjö.jpg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3612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PERCHE PARTECIPARE ALLA CAMPAGNA ENGAGE?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417320"/>
            <a:ext cx="85075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er impegnare </a:t>
            </a:r>
            <a:r>
              <a:rPr b="0" lang="en-GB" sz="2700" spc="-1" strike="noStrike">
                <a:solidFill>
                  <a:srgbClr val="254061"/>
                </a:solidFill>
                <a:latin typeface="Arial"/>
              </a:rPr>
              <a:t>l’autorità locale, i cittadini  ed i portatori di interesse a ridurre il consumo di energia </a:t>
            </a:r>
            <a:endParaRPr b="0" lang="en-US" sz="27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er contribuire </a:t>
            </a:r>
            <a:r>
              <a:rPr b="0" lang="en-GB" sz="2700" spc="-1" strike="noStrike">
                <a:solidFill>
                  <a:srgbClr val="1f497d"/>
                </a:solidFill>
                <a:latin typeface="Arial"/>
              </a:rPr>
              <a:t>agli obiettivi “3x20” dell’Unione Europea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er mostrare </a:t>
            </a:r>
            <a:r>
              <a:rPr b="0" lang="en-GB" sz="2700" spc="-1" strike="noStrike">
                <a:solidFill>
                  <a:srgbClr val="254061"/>
                </a:solidFill>
                <a:latin typeface="Arial"/>
              </a:rPr>
              <a:t>che le campagne partecipative di communicazione  portano a reali risparmi energetici</a:t>
            </a:r>
            <a:endParaRPr b="0" lang="en-US" sz="27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5" name="Picture 6" descr="http://a4.sphotos.ak.fbcdn.net/hphotos-ak-snc6/249700_123893281026369_100002170929296_185887_7770965_n.jpg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6" name="ZoneTexte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contenu 2"/>
          <p:cNvSpPr/>
          <p:nvPr/>
        </p:nvSpPr>
        <p:spPr>
          <a:xfrm>
            <a:off x="4427640" y="4437000"/>
            <a:ext cx="43923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er rendere visibili le azioni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grazie ai poster creativ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contenu 9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rtecipate alla campagna ENG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oneTexte 1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TTO – Ian Tur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Stagiaire 3</cp:lastModifiedBy>
  <dcterms:modified xsi:type="dcterms:W3CDTF">2012-06-05T15:28:29Z</dcterms:modified>
  <cp:revision>132</cp:revision>
  <dc:subject/>
  <dc:title>Présentation PowerPoint</dc:title>
</cp:coreProperties>
</file>