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C0888-2C08-48F3-A2C2-7FE20D5C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94416-D154-44F0-8763-321A1C86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0CF76-A18F-406B-9FDF-7BDB41B5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2ED9C-0364-4175-88B9-F64C8FE7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9B01E-14E6-4CF5-82E8-00C3BBDA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38EBC-EBC5-4E66-994E-3E348C80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DBD93-1A64-40E4-A3BB-49C9C3B4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B51BD-DDB4-47CE-8E91-5F5176AB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145A1-0A7C-41DD-A226-B36C56B6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0DE3B-509B-4036-AB74-DEF16181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7BF5E-E502-4D5E-8451-87A772F0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9956F-9A0C-42A1-B3A1-0979057C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AA9FF-8DD4-4EC6-B9AE-0C72C200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1A176-6E84-4939-8A76-CCF5E87E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62994-3C6F-431A-93C6-258569EE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BEA4C-E483-4184-8E0D-A69B3AE9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D6060-5D81-46EF-800B-83EB28B7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3598F-5FDA-49F5-B787-270CDFCB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446A3-0E93-422E-9235-D96DCDB2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F8B70-B383-4512-A849-58E3CF48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E99EE-ED07-4302-83B0-AC7F3006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26BD4-9A10-4D51-A293-85DFE08C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207A7-56F7-44B4-A9BE-CB999D2E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F7660-BE70-44C4-B0D2-BAB671AA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009E3-4308-4F3E-A0D0-86EFBEE2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0981E-60BA-489E-A0C5-B75B6448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C2C03-421D-4011-BDDC-2558CB9A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49959-E4A0-4D18-8B01-D6A2DD52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C7199-15E9-4556-845D-C5332626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2EE57-9EEA-4E54-8E2E-502C2E87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01F73-CF20-41B8-9562-EA98CFE1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D1E67-805F-4B77-BD46-DD2785F0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24775-D5C8-481B-BD95-9DC556B8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3585E-51B6-4923-B843-80EEBAE3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3379D-3F32-4722-BE62-49BFEFAA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577E7-A09C-4505-BD38-4CDC5678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0C9F7-A02F-452F-82EE-DA7F748C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EEBA6-3E6F-42F1-B44B-5489817B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C78D5-BAFC-442C-A439-29712A18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E4F88-C11F-40A7-BB02-E60E90F7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F1C39-7A59-493A-A554-F77674F6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D0F13-D9FA-4A09-AB88-7B4D29EF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0A2A9-6348-4E38-8888-02365994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E6557-6D5D-460A-BB8D-50FE4FBC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0E313-DA5D-4356-B65E-0721537B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BEC7-0D55-4463-A931-63705E8F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5247-4525-427F-9383-5B68F757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930-153F-4DCC-A140-6C931D60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286-E913-4432-9E03-C31934A0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D97-925F-418D-AF27-6E5D5EA2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819-312E-4153-B194-ED73C776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BFC-4E20-4AFD-8E7B-CC8BCCD1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94B-0BEC-4EB9-B426-FD9F3665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C203-0F05-404E-A4F0-58F8D89C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CDB-B314-400A-8DD8-DD4094D7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C45-BBE3-404C-B5A6-CB8B6FB9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010-3AE8-48F7-9A78-0B5568CD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CF1F-1D87-45F0-AF0A-AA005AE9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61D1-89AC-4238-92BB-6F327029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F03C-A8E2-4FBA-9B48-9509908C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324D-0F40-4F6A-8217-F8F3DDAD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2992-03A3-46AF-BD73-40DE0EAA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3D32-70C1-40D6-B2D4-0A9F2537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0308-8249-4DC5-8343-946B42C0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4AAD-2AAD-4805-8566-C6DC4BCD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BAEB-F835-499E-928D-6E382F23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56CA-1786-4A8E-B18C-08CB9945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7C8C-CFE2-4E44-9512-1BF224BA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06C1-33C9-4CC8-9694-538F6187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6C440-357D-4320-AF9D-A5704F41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22E08-E6FD-4790-9BC2-D13BA0B5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89460-B096-47E4-B162-B390DA15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7EA7A-3EBE-46CC-B65E-03608430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D855C-5A05-4D17-B18C-0C94965D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B1536-BE82-4C86-A3D3-4EAF450E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DE228-42DB-42F5-95FB-48832405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B3318-9D9A-48A1-BA8C-8F4C8248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E5BEB-D2A6-434D-9B83-5360A012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91ACD-0EAE-41DF-9877-3C0842D4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EFB53-E254-4A8C-AD9E-2A9E2B6B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3E165-8B6A-4D76-A433-E9421A28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254E2-1A76-4847-81BD-28818AE5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340BC-1570-4343-A329-D13FE807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504DF-FF8D-46E5-B57B-FB3FEC5B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B84B9-3FB1-4524-A1BD-D23D642E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FC84C-FEAA-46FE-A694-1C62473B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2F5BA-EFA2-4F10-B937-EBAAAA15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4FD58-8FF7-448D-A913-CEC76A3E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34813-ACB4-4BBA-B524-EC5043D9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3DD43-D333-42D2-AA72-64054C16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02AAA-7FED-4302-B297-52D1EC9B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4FD06-2B7D-4909-95C0-A51BBD2C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E4F13-F0FB-48A3-8C71-F20C279E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23F50-673F-494A-B0AB-6D2B75E2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9A8F3-14A5-4E1E-BE02-11394F9C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0C8BD-6C25-4C28-9036-BFDE45B8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4EDA2-33E4-4B03-8C70-3E15EA7A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DA0BB-2045-4349-AB4D-6E9C4994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92348-D56E-44BA-AA01-55669A84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7DE19-BFCB-413D-A066-ABDC866F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71738-C0DD-4800-A9DF-7E4A9EF2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80C7B-D190-4370-812B-8E65A951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5C69C-C996-4753-98CA-7CD5E315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86AF4-AB98-4ACD-9B67-33275982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40580-9533-43ED-A0EF-1C820E64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69D7A-2138-404E-A23F-FF55C7D9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07C68-87F3-4668-A238-A5FB75D3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7BF52-CC4F-4AE1-93F0-29350ED1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ABC99-B581-42F3-85DF-8B809790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12183-5867-4B68-B0FB-9428EE5D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82852-C5BD-4D04-989B-271D00C9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8AA25-1BBE-4306-85B1-14DB9E9D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4665E-5DCB-4EF4-848E-B41863AE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23258-DF45-421A-950E-44200407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85EE8-83A1-40BF-8559-B863B3C9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90630-C1D3-43C0-B750-0FC9D6E3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1DDAB-ED4C-4029-B639-06B916A8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D42AF-5A0C-440B-9A58-ED35A047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0B995-F500-4F36-B44A-64C3D97F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B785A-1B61-45CB-AA07-594E03DB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FE68-0DF9-46CB-88FD-BFD63FA9B53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EEE7-D6FC-4006-B8E6-04DF35203D6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A47A-A842-4DBA-A7F7-564BD518185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X:\Intranet\ENGAGE\Action\WP5-Com &amp; Eur ENGAGE Campaign\5.1 Dvlpt graphic charter\Graphical guidelines\ENGAGE_Graphical_guidelines_files\ENGAGE_ppt_cover_update.jpg"/>
          <p:cNvPicPr/>
          <p:nvPr/>
        </p:nvPicPr>
        <p:blipFill>
          <a:blip r:embed="rId3"/>
          <a:stretch/>
        </p:blipFill>
        <p:spPr>
          <a:xfrm>
            <a:off x="-1440" y="0"/>
            <a:ext cx="9158040" cy="6870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BFDE-5073-4FD1-9BE5-510315E3178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5C67-60D4-4FEB-BB2B-1C2293302C2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6BF8-3296-4D46-AF4A-10C752A204C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2B1E-D059-452E-8B61-2A62EB2CFB1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2978-314D-4F6A-A370-08E6CD754BF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E446-71FE-431B-BE3E-C4216297A46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E85D-F6DA-4DE9-A14B-04DD575211F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9" descr="X:\Intranet\ENGAGE\Action\WP5-Com &amp; Eur ENGAGE Campaign\5.5 Eur campaign\Presentation of ENGAGE\ENGAGE_slide2_low.jpg"/>
          <p:cNvPicPr/>
          <p:nvPr/>
        </p:nvPicPr>
        <p:blipFill>
          <a:blip r:embed="rId1"/>
          <a:stretch/>
        </p:blipFill>
        <p:spPr>
          <a:xfrm>
            <a:off x="0" y="12600"/>
            <a:ext cx="9323280" cy="69948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8920" y="85680"/>
            <a:ext cx="224316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54061"/>
                </a:solidFill>
                <a:latin typeface="Arial"/>
              </a:rPr>
              <a:t>ENG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5280" y="806040"/>
            <a:ext cx="44640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TTADINI, PORTATORI DI INTERESSE, 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02" name="Espace réservé du contenu 9"/>
          <p:cNvSpPr/>
          <p:nvPr/>
        </p:nvSpPr>
        <p:spPr>
          <a:xfrm>
            <a:off x="0" y="4876920"/>
            <a:ext cx="93232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… </a:t>
            </a: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E RAGGIUNGIATE GLI OBIETTI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54061"/>
                </a:solidFill>
                <a:latin typeface="Arial"/>
              </a:rPr>
              <a:t>SU ENERGIA &amp; CL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DELLA VOSTRA CITTA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Espace réservé du contenu 9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5940360" y="806400"/>
            <a:ext cx="3635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IPENDENTI PUBBLI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 TANTI ALTRI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LA CAMPAGNA ENGAGE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50560" y="1125000"/>
            <a:ext cx="5113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54061"/>
                </a:solidFill>
                <a:latin typeface="Arial"/>
              </a:rPr>
              <a:t>Un’iniziativa partecipativa di communicazione realizzata da città </a:t>
            </a:r>
            <a:r>
              <a:rPr b="0" lang="it-IT" sz="3200" spc="-1" strike="noStrike">
                <a:solidFill>
                  <a:srgbClr val="254061"/>
                </a:solidFill>
                <a:latin typeface="Arial"/>
              </a:rPr>
              <a:t>europee</a:t>
            </a:r>
            <a:r>
              <a:rPr b="0" lang="en-GB" sz="3200" spc="-1" strike="noStrike">
                <a:solidFill>
                  <a:srgbClr val="254061"/>
                </a:solidFill>
                <a:latin typeface="Arial"/>
              </a:rPr>
              <a:t>…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54061"/>
                </a:solidFill>
                <a:latin typeface="Arial"/>
              </a:rPr>
              <a:t>che impegnano i cittadini ed i portatori di interesse a partecipare alla costruzione di u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uturo energetico sostenibile</a:t>
            </a:r>
            <a:r>
              <a:rPr b="0" lang="en-GB" sz="3200" spc="-1" strike="noStrike">
                <a:solidFill>
                  <a:srgbClr val="25406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07" name="Picture 3" descr="X:\Intranet\ENGAGE\Action\WP3-ENGAGE local\3.2 Implementing the PR Campaign\Slide Show\Slide Show files\posters\Leicester.jpg"/>
          <p:cNvPicPr/>
          <p:nvPr/>
        </p:nvPicPr>
        <p:blipFill>
          <a:blip r:embed="rId5"/>
          <a:stretch/>
        </p:blipFill>
        <p:spPr>
          <a:xfrm>
            <a:off x="5505480" y="1125360"/>
            <a:ext cx="3638520" cy="514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POSTER UNICI PER MOBILITARE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20400" y="836640"/>
            <a:ext cx="8435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Uno strumento facile da usare per creare poster fatti su misura con impegni personali in favore dell’energia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10" name="Picture 4" descr="X:\Intranet\ENGAGE\Action\WP3-ENGAGE local\3.2 Implementing the PR Campaign\Slide Show\Slide Show files\posters\Oeiras.jpg"/>
          <p:cNvPicPr/>
          <p:nvPr/>
        </p:nvPicPr>
        <p:blipFill>
          <a:blip r:embed="rId2"/>
          <a:stretch/>
        </p:blipFill>
        <p:spPr>
          <a:xfrm>
            <a:off x="3851280" y="2281320"/>
            <a:ext cx="5292720" cy="3740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1" name="Picture 7" descr="X:\Intranet\ENGAGE\Action\WP3-ENGAGE local\3.2 Implementing the PR Campaign\Slide Show\Slide Show files\posters\Rennes.jpg"/>
          <p:cNvPicPr/>
          <p:nvPr/>
        </p:nvPicPr>
        <p:blipFill>
          <a:blip r:embed="rId3"/>
          <a:stretch/>
        </p:blipFill>
        <p:spPr>
          <a:xfrm>
            <a:off x="324000" y="2643120"/>
            <a:ext cx="1714320" cy="2427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2" name="Picture 8" descr="X:\Intranet\ENGAGE\Action\WP3-ENGAGE local\3.2 Implementing the PR Campaign\Slide Show\Slide Show files\posters\Växjö.jpg"/>
          <p:cNvPicPr/>
          <p:nvPr/>
        </p:nvPicPr>
        <p:blipFill>
          <a:blip r:embed="rId4"/>
          <a:stretch/>
        </p:blipFill>
        <p:spPr>
          <a:xfrm>
            <a:off x="2224080" y="3505320"/>
            <a:ext cx="1422360" cy="20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3612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PERCHE PARTECIPARE ALLA CAMPAGNA ENGAGE?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417320"/>
            <a:ext cx="850752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er impegnare </a:t>
            </a:r>
            <a:r>
              <a:rPr b="0" lang="en-GB" sz="2700" spc="-1" strike="noStrike">
                <a:solidFill>
                  <a:srgbClr val="254061"/>
                </a:solidFill>
                <a:latin typeface="Arial"/>
              </a:rPr>
              <a:t>l’autorità locale, i cittadini  ed i portatori di interesse a ridurre il consumo di energia </a:t>
            </a:r>
            <a:endParaRPr b="0" lang="en-US" sz="27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er contribuire </a:t>
            </a:r>
            <a:r>
              <a:rPr b="0" lang="en-GB" sz="2700" spc="-1" strike="noStrike">
                <a:solidFill>
                  <a:srgbClr val="1f497d"/>
                </a:solidFill>
                <a:latin typeface="Arial"/>
              </a:rPr>
              <a:t>agli obiettivi “3x20” dell’Unione Europea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er mostrare </a:t>
            </a:r>
            <a:r>
              <a:rPr b="0" lang="en-GB" sz="2700" spc="-1" strike="noStrike">
                <a:solidFill>
                  <a:srgbClr val="254061"/>
                </a:solidFill>
                <a:latin typeface="Arial"/>
              </a:rPr>
              <a:t>che le campagne partecipative di communicazione  portano a reali risparmi energetici</a:t>
            </a:r>
            <a:endParaRPr b="0" lang="en-US" sz="27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15" name="Picture 6" descr="http://a4.sphotos.ak.fbcdn.net/hphotos-ak-snc6/249700_123893281026369_100002170929296_185887_7770965_n.jpg"/>
          <p:cNvPicPr/>
          <p:nvPr/>
        </p:nvPicPr>
        <p:blipFill>
          <a:blip r:embed="rId4"/>
          <a:stretch/>
        </p:blipFill>
        <p:spPr>
          <a:xfrm>
            <a:off x="0" y="4630680"/>
            <a:ext cx="4299120" cy="1812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16" name="ZoneTexte 4"/>
          <p:cNvSpPr/>
          <p:nvPr/>
        </p:nvSpPr>
        <p:spPr>
          <a:xfrm>
            <a:off x="-52560" y="624528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City of Pampl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Espace réservé du contenu 2"/>
          <p:cNvSpPr/>
          <p:nvPr/>
        </p:nvSpPr>
        <p:spPr>
          <a:xfrm>
            <a:off x="4427640" y="4437000"/>
            <a:ext cx="439236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Per rendere visibili le azioni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grazie ai poster creativ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X:\Intranet\ENGAGE\Action\WP5-Com &amp; Eur ENGAGE Campaign\5.5 Eur campaign\Presentation of ENGAGE\ENGAGE_slide2_low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519" name="Espace réservé du contenu 9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Espace réservé du contenu 9"/>
          <p:cNvSpPr/>
          <p:nvPr/>
        </p:nvSpPr>
        <p:spPr>
          <a:xfrm>
            <a:off x="0" y="260280"/>
            <a:ext cx="91774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artecipate alla campagna ENGAG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oneTexte 1"/>
          <p:cNvSpPr/>
          <p:nvPr/>
        </p:nvSpPr>
        <p:spPr>
          <a:xfrm>
            <a:off x="-33480" y="4830840"/>
            <a:ext cx="917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CONTATTO – Ian Tur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www.energy-cities.eu/ia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+33 81 65 37 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11:51:23Z</dcterms:created>
  <dc:creator>Rohan Guyot-Sutherland</dc:creator>
  <dc:description/>
  <dc:language>en-US</dc:language>
  <cp:lastModifiedBy>Stagiaire 3</cp:lastModifiedBy>
  <dcterms:modified xsi:type="dcterms:W3CDTF">2012-06-05T15:28:29Z</dcterms:modified>
  <cp:revision>132</cp:revision>
  <dc:subject/>
  <dc:title>Présentation PowerPoint</dc:title>
</cp:coreProperties>
</file>