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2140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DA2018-B5E1-4D80-A603-1D1AA2E3C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652929-6339-4AE2-AD46-D76A11CE1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3000" cy="33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576AC8-9A6B-4E2C-B9D4-D9712D5C2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FAD381-94DF-4882-82DF-9B181DA54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352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B48462-B1F4-4880-BD11-EE05E85BF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55D84C-4CC6-41EF-9BBD-5201AFA45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2140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46A280-6D26-4B75-A68B-E641F1311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352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7BC7EF-033E-4916-9811-47D4EDF4B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28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136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28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136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55CA07-A765-40FE-BEBD-2D6B01ADD49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AD03590-A7CB-4EE7-B3D6-340EFA87D6E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352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EE1515E-799A-4EA7-B15A-6D2C3A2A0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8B14658-4732-45EC-970F-27D5DBBBA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5182347-AA48-48A6-B7F9-8288EC615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F79399D-8527-4D33-85A2-0868D67AE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3000" cy="33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700C478-8874-4601-864C-7664FF079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0205EC9-CEE8-4B75-8C1D-A7B099F26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352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8893030-CF25-4B13-8A9D-74F502584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C93355B-8233-48CF-ABAE-B9FF3C4CD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82140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6B77848-E6ED-4384-8A4B-1C912B518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352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66A4488-A13F-44B3-A061-2A7467E3C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28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136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28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136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28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136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28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136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25683C4-0F9B-4BDA-A437-ED759C3FCF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2FE15E-A79C-49CF-BFE1-06E5F1A66B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5A973F-6D0C-46D3-B9AA-C205CC8A6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0C489E-0060-4A9B-9F52-D7DB9EB64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F9D09E-DB32-419A-ACEF-326445CB3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AD9348-ED99-4FC6-BF8A-2A8EAAF31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3000" cy="33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FD19E8-1DBD-406E-9D30-8C0DDB9AB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131510-A640-43A9-8B42-38A9480E9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352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D89B23-C702-498C-AB30-61ECCD8F5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1CCCA6-067C-4D6A-9393-EAB40B145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82140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947771-C1DF-4B4F-8328-2880DC793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352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A4BD1-2DEE-4F1A-B81C-8BFD565EE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28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136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28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136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1A3D62-1408-458F-BE80-7E359E5E0E0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FB902E-84E8-4EB9-A7C0-F830F05D07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345518-92C4-4FF1-A9E2-A7100BB24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792F25-06B0-43A9-9175-D365F901D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1CAC4C-AAB8-4D3F-9B17-C58DB1A65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21EB48-B5F4-4432-BF81-4D35F225E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3000" cy="33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4C8637-9406-42AB-BBA5-C074DFCC9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C88AC5-63AF-4CB9-9F12-7F299526A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352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DBBB63-03EA-4212-8240-B37D29C55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48C177-06D1-4DA8-BD80-E36460145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57200" y="382140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385907-EC8D-4793-85CD-DE0C65FB0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352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F697DA-41B9-494C-A42F-2B7A9998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3928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2136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5720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3928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2136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33E295-C397-4A2A-A481-A02E3CEBDB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3000" cy="33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352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82140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352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28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136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28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136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50C86-28D7-423C-8F22-424D1A7824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9E25D-B6C6-4F00-AE2B-5B329DD00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48C4F-407C-41E8-84A2-DDA477A58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3007B-8BE6-430D-9B7E-188AD657E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AF136-E529-47AE-9A3A-DC7E5C757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3000" cy="33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9BAE8-43F7-434D-B1D9-480CF81B8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C6D22-D508-44CF-8C1F-7BBC9DFBB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352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8B45E-4CDB-42B3-B353-2600E3CB6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6D6F7-5CFD-418B-A069-CE3C8C2CC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82140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EA77E-B208-4508-8F36-2AF29F2DE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352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D0EA9-3502-4514-A75B-9B17847D2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28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136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28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136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80701-38D1-4002-B52E-FAF0AC6C36C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71CCF0-1082-4F7D-A0EF-3B0CD9C43AD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72164D-ECA8-4DEB-837D-8D561C17B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51548E-C164-46A9-91C2-077A91E4C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9342DE-7FB3-4214-93C9-28DDFB2D8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0A2029-4EB2-4DC1-88D1-021782FB9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3000" cy="33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A1FD3F-56EC-48B3-95E1-B8E0B23F5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5E97F0-D3D8-4AE2-BF21-50F92890B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352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8ED95A-B9BC-4909-AA65-F5124D750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38B53F-B5F9-4613-A5B6-674951513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82140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9739CD-FECF-410D-B760-DBD0AE39D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352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474DA3-0FDA-427E-91F1-0C56AD4F1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28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136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28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136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57180A-5900-44E1-8A3F-D3E203DB7C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E9137-B242-43D3-A99C-6F796503FE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FE8B0-C4F2-464F-846D-D559FB06B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26D41-E592-48CC-B035-CE845CE43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48A44-C48A-4A84-B2D9-6B791FDBA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10A2C-CEE4-484F-8C52-34B11F339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3000" cy="33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BE92F-CA67-4B02-9A76-F900461BC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587F5-C67C-4363-94F6-5E6570E1D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352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335DD-BB3B-45FD-9882-4D16A6B65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21B35-5392-4024-9014-3EA822E88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82140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4DA85-0DB0-4032-AE59-45E8D39EF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352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21A2A-5107-408E-B299-E1F803DA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3000" cy="33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28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136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28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136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E6733-48A8-4980-A59D-6D79358D54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D293C1-427E-456A-8E5D-9C3778820D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39889E-B94C-40EF-8C0C-8CB36C8EC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B90C74-18F6-4A23-8BA1-E5858475E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9E5EB9-4822-42D8-BDA6-643A213E1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3D9AF6-06E0-4676-9551-4ABC3A547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3000" cy="33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6576A2-085E-4AA6-B67C-A8F03FC4B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9B452E-89FB-45FB-9FE2-D14152FFC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352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ABB8B8-575C-414C-B7B3-D3EA73498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9C3745-3EB3-438D-9008-D61554994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82140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5ED6F7-3CE9-44FC-A148-B7BEB2BC5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352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4058F4-9F3E-4967-B1CF-2DA7455C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28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136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28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136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65C7C0-CB29-423A-8FA8-DFDD145065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CDA3C0-6AE7-422C-81E7-1635D2AABB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E3C941-B01F-4E88-81F6-AA2027031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640A98-40BE-4700-AA18-583F3AC70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3A2EA1-46BB-4FEA-A282-33821E10A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81A22D-1FA4-46EA-B3A7-9F28C16C4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3000" cy="33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3F9BB6-2C98-49B5-A7E6-3117B4639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3595C1-D472-4CB4-B8A2-51630A77D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352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352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57DCC9-4E2E-40F7-B84C-A8AB62256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6BD1A1-746A-43AF-8E65-2E7543D24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82140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A680C0-D39B-4346-B1E4-34BC9C826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352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B76C28-6218-4B49-A9A1-02367EA4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28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136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28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136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9D7777-4553-4A1B-8354-D68DE98D64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FDCF9-A49E-4ACC-ACB0-1635996C7DE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621C6-1156-42CA-9DB8-0FCECBE2F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FCD16-DF51-499D-BD5E-C9DAE0CA2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A02D7-F411-4407-8846-6CB22B5E5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7E133-A811-4E29-A9D5-B7A61AA1A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3000" cy="33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840B1-E816-4DC6-947B-59041F68F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97E27-1C90-4107-9FD8-2E8159D1D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52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18A69-9065-46DE-9081-32BEB1156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37DF2-0580-447C-B02B-203A1D7DF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82140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773F2-9558-430A-92B6-C4AB5ED82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52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2DB08-B499-41DC-9CEF-3F8953222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28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136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28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136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B0E20-8E03-4260-853D-31D99ED8BE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D3CBD1-A9B9-4A09-95B7-CDC258524F2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1C3A52-5A13-4394-8FF6-8EAB67D61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CD3648-C8CF-42C6-96FB-8188EA960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15"/>
          </p:nvPr>
        </p:nvSpPr>
        <p:spPr>
          <a:xfrm>
            <a:off x="457200" y="6356520"/>
            <a:ext cx="21319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7" name="Text Box 5"/>
          <p:cNvSpPr/>
          <p:nvPr/>
        </p:nvSpPr>
        <p:spPr>
          <a:xfrm>
            <a:off x="3124080" y="6356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22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8B63B2-69B0-4B5E-90A8-757AC3C6C84F}" type="slidenum">
              <a:rPr b="0" lang="en-GB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17"/>
          </p:nvPr>
        </p:nvSpPr>
        <p:spPr>
          <a:xfrm>
            <a:off x="457200" y="6356520"/>
            <a:ext cx="21319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9" name="Text Box 5"/>
          <p:cNvSpPr/>
          <p:nvPr/>
        </p:nvSpPr>
        <p:spPr>
          <a:xfrm>
            <a:off x="3124080" y="6356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22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C578DD-820D-4F9F-8BF1-2B2E86055D66}" type="slidenum">
              <a:rPr b="0" lang="en-GB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19"/>
          </p:nvPr>
        </p:nvSpPr>
        <p:spPr>
          <a:xfrm>
            <a:off x="457200" y="6356520"/>
            <a:ext cx="21319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1" name="Text Box 5"/>
          <p:cNvSpPr/>
          <p:nvPr/>
        </p:nvSpPr>
        <p:spPr>
          <a:xfrm>
            <a:off x="3124080" y="6356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22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7E10DA-267A-4E75-B105-0E387382CCF6}" type="slidenum">
              <a:rPr b="0" lang="en-GB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2" descr=""/>
          <p:cNvPicPr/>
          <p:nvPr/>
        </p:nvPicPr>
        <p:blipFill>
          <a:blip r:embed="rId3"/>
          <a:stretch/>
        </p:blipFill>
        <p:spPr>
          <a:xfrm>
            <a:off x="-1440" y="0"/>
            <a:ext cx="9158040" cy="68706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19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3124080" y="6356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22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E96818-8AF1-4663-A615-90C8687ABF02}" type="slidenum">
              <a:rPr b="0" lang="en-GB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3"/>
          </p:nvPr>
        </p:nvSpPr>
        <p:spPr>
          <a:xfrm>
            <a:off x="457200" y="6356520"/>
            <a:ext cx="21319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3124080" y="6356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22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A16AF5-1826-4B3E-8743-78AD40DA462C}" type="slidenum">
              <a:rPr b="0" lang="en-GB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5"/>
          </p:nvPr>
        </p:nvSpPr>
        <p:spPr>
          <a:xfrm>
            <a:off x="457200" y="6356520"/>
            <a:ext cx="21319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3124080" y="6356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22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2BFA1D-CB52-4851-A2DF-B77F7C5F1B6B}" type="slidenum">
              <a:rPr b="0" lang="en-GB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19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3124080" y="6356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22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79A97F-8BFA-4BE0-B8AF-AC98FEC19072}" type="slidenum">
              <a:rPr b="0" lang="en-GB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9"/>
          </p:nvPr>
        </p:nvSpPr>
        <p:spPr>
          <a:xfrm>
            <a:off x="457200" y="6356520"/>
            <a:ext cx="21319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3124080" y="6356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22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50FCB6-9B9D-4519-9A99-5D39C995EAB6}" type="slidenum">
              <a:rPr b="0" lang="en-GB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1"/>
          </p:nvPr>
        </p:nvSpPr>
        <p:spPr>
          <a:xfrm>
            <a:off x="457200" y="6356520"/>
            <a:ext cx="21319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Text Box 5"/>
          <p:cNvSpPr/>
          <p:nvPr/>
        </p:nvSpPr>
        <p:spPr>
          <a:xfrm>
            <a:off x="3124080" y="6356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22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B75395-829A-4AE4-8623-127D773C9DE7}" type="slidenum">
              <a:rPr b="0" lang="en-GB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13"/>
          </p:nvPr>
        </p:nvSpPr>
        <p:spPr>
          <a:xfrm>
            <a:off x="457200" y="6356520"/>
            <a:ext cx="21319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Text Box 5"/>
          <p:cNvSpPr/>
          <p:nvPr/>
        </p:nvSpPr>
        <p:spPr>
          <a:xfrm>
            <a:off x="3124080" y="6356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22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0D080D-B7D2-4DDB-A168-62F9CED4345A}" type="slidenum">
              <a:rPr b="0" lang="en-GB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9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1" descr="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59800"/>
          </a:xfrm>
          <a:prstGeom prst="rect">
            <a:avLst/>
          </a:prstGeom>
          <a:ln w="0">
            <a:noFill/>
          </a:ln>
        </p:spPr>
      </p:pic>
      <p:sp>
        <p:nvSpPr>
          <p:cNvPr id="500" name="Text Box 2"/>
          <p:cNvSpPr/>
          <p:nvPr/>
        </p:nvSpPr>
        <p:spPr>
          <a:xfrm>
            <a:off x="179280" y="85680"/>
            <a:ext cx="22431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254061"/>
                </a:solidFill>
                <a:latin typeface="Arial"/>
              </a:rPr>
              <a:t>ENGAG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1" name="Text Box 3"/>
          <p:cNvSpPr/>
          <p:nvPr/>
        </p:nvSpPr>
        <p:spPr>
          <a:xfrm>
            <a:off x="0" y="692280"/>
            <a:ext cx="496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Arial"/>
              </a:rPr>
              <a:t>CIDADÃOS, INSTITUÇÕES, EMPRESAS…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Text Box 4"/>
          <p:cNvSpPr/>
          <p:nvPr/>
        </p:nvSpPr>
        <p:spPr>
          <a:xfrm>
            <a:off x="755640" y="4797360"/>
            <a:ext cx="838836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1800" spc="-1" strike="noStrike">
                <a:solidFill>
                  <a:srgbClr val="254061"/>
                </a:solidFill>
                <a:latin typeface="Arial"/>
              </a:rPr>
              <a:t>… </a:t>
            </a:r>
            <a:r>
              <a:rPr b="1" lang="pt-PT" sz="1800" spc="-1" strike="noStrike">
                <a:solidFill>
                  <a:srgbClr val="254061"/>
                </a:solidFill>
                <a:latin typeface="Arial"/>
              </a:rPr>
              <a:t>E ALCANCE OS OBJETIVOS DO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400" spc="-1" strike="noStrike">
                <a:solidFill>
                  <a:srgbClr val="254061"/>
                </a:solidFill>
                <a:latin typeface="Arial"/>
              </a:rPr>
              <a:t>PLANO CLIMA-ENERGÍA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1800" spc="-1" strike="noStrike">
                <a:solidFill>
                  <a:srgbClr val="254061"/>
                </a:solidFill>
                <a:latin typeface="Arial"/>
              </a:rPr>
              <a:t>DA SUA COLECTIVIDADE!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3" name="Text Box 5"/>
          <p:cNvSpPr/>
          <p:nvPr/>
        </p:nvSpPr>
        <p:spPr>
          <a:xfrm>
            <a:off x="0" y="6093000"/>
            <a:ext cx="9144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ww.citiesengage.eu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4" name="Rectangle 6"/>
          <p:cNvSpPr/>
          <p:nvPr/>
        </p:nvSpPr>
        <p:spPr>
          <a:xfrm>
            <a:off x="5508720" y="836640"/>
            <a:ext cx="36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1"/>
          <p:cNvSpPr/>
          <p:nvPr/>
        </p:nvSpPr>
        <p:spPr>
          <a:xfrm>
            <a:off x="457200" y="115920"/>
            <a:ext cx="757080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3500" spc="-1" strike="noStrike">
                <a:solidFill>
                  <a:srgbClr val="ffffff"/>
                </a:solidFill>
                <a:latin typeface="Arial"/>
              </a:rPr>
              <a:t>A CAMPANHA ENGAGE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6" name="Text Box 2"/>
          <p:cNvSpPr/>
          <p:nvPr/>
        </p:nvSpPr>
        <p:spPr>
          <a:xfrm>
            <a:off x="457200" y="1125360"/>
            <a:ext cx="504828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" sz="3000" spc="-1" strike="noStrike">
                <a:solidFill>
                  <a:srgbClr val="254061"/>
                </a:solidFill>
                <a:latin typeface="Arial"/>
              </a:rPr>
              <a:t>Uma iniciativa de comunicação </a:t>
            </a: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participativa</a:t>
            </a:r>
            <a:r>
              <a:rPr b="0" lang="es-ES" sz="3000" spc="-1" strike="noStrike">
                <a:solidFill>
                  <a:srgbClr val="254061"/>
                </a:solidFill>
                <a:latin typeface="Arial"/>
              </a:rPr>
              <a:t> implementada por cidades europeias </a:t>
            </a:r>
            <a:r>
              <a:rPr b="0" lang="en-GB" sz="3000" spc="-1" strike="noStrike">
                <a:solidFill>
                  <a:srgbClr val="254061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254061"/>
                </a:solidFill>
                <a:latin typeface="Arial"/>
              </a:rPr>
              <a:t>… </a:t>
            </a:r>
            <a:r>
              <a:rPr b="0" lang="es-ES" sz="3000" spc="-1" strike="noStrike">
                <a:solidFill>
                  <a:srgbClr val="254061"/>
                </a:solidFill>
                <a:latin typeface="Arial"/>
              </a:rPr>
              <a:t>que convida todos os cidadãos e parceiros locais para eles assumirem o seu papel na construção de </a:t>
            </a: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um futuro energético sustentável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7" name="Picture 3" descr=""/>
          <p:cNvPicPr/>
          <p:nvPr/>
        </p:nvPicPr>
        <p:blipFill>
          <a:blip r:embed="rId3"/>
          <a:stretch/>
        </p:blipFill>
        <p:spPr>
          <a:xfrm>
            <a:off x="5505480" y="1125360"/>
            <a:ext cx="3638520" cy="514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ext Box 1"/>
          <p:cNvSpPr/>
          <p:nvPr/>
        </p:nvSpPr>
        <p:spPr>
          <a:xfrm>
            <a:off x="457200" y="-98280"/>
            <a:ext cx="785988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3500" spc="-1" strike="noStrike">
                <a:solidFill>
                  <a:srgbClr val="ffffff"/>
                </a:solidFill>
                <a:latin typeface="Arial"/>
              </a:rPr>
              <a:t>MOBILIZAR GRAÇAS A CARTAZES INOVADORES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9" name="Text Box 2"/>
          <p:cNvSpPr/>
          <p:nvPr/>
        </p:nvSpPr>
        <p:spPr>
          <a:xfrm>
            <a:off x="457200" y="1052640"/>
            <a:ext cx="843588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" sz="3000" spc="-1" strike="noStrike">
                <a:solidFill>
                  <a:srgbClr val="254061"/>
                </a:solidFill>
                <a:latin typeface="Arial"/>
              </a:rPr>
              <a:t>Uma </a:t>
            </a: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ferramenta amigável </a:t>
            </a:r>
            <a:r>
              <a:rPr b="0" lang="es-ES" sz="3000" spc="-1" strike="noStrike">
                <a:solidFill>
                  <a:srgbClr val="254061"/>
                </a:solidFill>
                <a:latin typeface="Arial"/>
              </a:rPr>
              <a:t>para crear </a:t>
            </a: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cartazes personalizados </a:t>
            </a:r>
            <a:r>
              <a:rPr b="0" lang="es-ES" sz="3000" spc="-1" strike="noStrike">
                <a:solidFill>
                  <a:srgbClr val="254061"/>
                </a:solidFill>
                <a:latin typeface="Arial"/>
              </a:rPr>
              <a:t>que presentem compromissos sobre a energía sustentá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10" name="Picture 3" descr=""/>
          <p:cNvPicPr/>
          <p:nvPr/>
        </p:nvPicPr>
        <p:blipFill>
          <a:blip r:embed="rId2"/>
          <a:stretch/>
        </p:blipFill>
        <p:spPr>
          <a:xfrm>
            <a:off x="3851280" y="2637000"/>
            <a:ext cx="5292720" cy="374004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4" descr=""/>
          <p:cNvPicPr/>
          <p:nvPr/>
        </p:nvPicPr>
        <p:blipFill>
          <a:blip r:embed="rId3"/>
          <a:stretch/>
        </p:blipFill>
        <p:spPr>
          <a:xfrm>
            <a:off x="324000" y="2997360"/>
            <a:ext cx="1714320" cy="242712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5" descr=""/>
          <p:cNvPicPr/>
          <p:nvPr/>
        </p:nvPicPr>
        <p:blipFill>
          <a:blip r:embed="rId4"/>
          <a:stretch/>
        </p:blipFill>
        <p:spPr>
          <a:xfrm>
            <a:off x="2224080" y="3505320"/>
            <a:ext cx="1422360" cy="201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Text Box 1"/>
          <p:cNvSpPr/>
          <p:nvPr/>
        </p:nvSpPr>
        <p:spPr>
          <a:xfrm>
            <a:off x="457200" y="11160"/>
            <a:ext cx="85788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3500" spc="-1" strike="noStrike">
                <a:solidFill>
                  <a:srgbClr val="ffffff"/>
                </a:solidFill>
                <a:latin typeface="Arial"/>
              </a:rPr>
              <a:t>POR QUE UNIR-SE A CAMPANHA ENGAGE?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4" name="Text Box 2"/>
          <p:cNvSpPr/>
          <p:nvPr/>
        </p:nvSpPr>
        <p:spPr>
          <a:xfrm>
            <a:off x="457200" y="1417680"/>
            <a:ext cx="8507520" cy="32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02833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" sz="2700" spc="-1" strike="noStrike">
                <a:solidFill>
                  <a:srgbClr val="ffffff"/>
                </a:solidFill>
                <a:latin typeface="Arial"/>
              </a:rPr>
              <a:t>Para envolver a </a:t>
            </a:r>
            <a:r>
              <a:rPr b="0" lang="es-ES" sz="2700" spc="-1" strike="noStrike">
                <a:solidFill>
                  <a:srgbClr val="254061"/>
                </a:solidFill>
                <a:latin typeface="Arial"/>
              </a:rPr>
              <a:t>sua autoridad local, os cidadãos y os actores locais na redução do seu consumo energético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02833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" sz="2700" spc="-1" strike="noStrike">
                <a:solidFill>
                  <a:srgbClr val="ffffff"/>
                </a:solidFill>
                <a:latin typeface="Arial"/>
              </a:rPr>
              <a:t>Para contribuir  </a:t>
            </a:r>
            <a:r>
              <a:rPr b="0" lang="es-ES" sz="2700" spc="-1" strike="noStrike">
                <a:solidFill>
                  <a:srgbClr val="254061"/>
                </a:solidFill>
                <a:latin typeface="Arial"/>
              </a:rPr>
              <a:t>a atingir os objetivos “3x20” da  União europeia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02833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" sz="2700" spc="-1" strike="noStrike">
                <a:solidFill>
                  <a:srgbClr val="ffffff"/>
                </a:solidFill>
                <a:latin typeface="Arial"/>
              </a:rPr>
              <a:t>Para provar</a:t>
            </a:r>
            <a:r>
              <a:rPr b="0" lang="es-ES" sz="2700" spc="-1" strike="noStrike">
                <a:solidFill>
                  <a:srgbClr val="254061"/>
                </a:solidFill>
                <a:latin typeface="Arial"/>
              </a:rPr>
              <a:t> que as campañas participativas de comunicação  levan a poupanças energéticas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15" name="Picture 3" descr=""/>
          <p:cNvPicPr/>
          <p:nvPr/>
        </p:nvPicPr>
        <p:blipFill>
          <a:blip r:embed="rId4"/>
          <a:stretch/>
        </p:blipFill>
        <p:spPr>
          <a:xfrm>
            <a:off x="0" y="4630680"/>
            <a:ext cx="4299120" cy="1812960"/>
          </a:xfrm>
          <a:prstGeom prst="rect">
            <a:avLst/>
          </a:prstGeom>
          <a:ln w="0">
            <a:noFill/>
          </a:ln>
        </p:spPr>
      </p:pic>
      <p:sp>
        <p:nvSpPr>
          <p:cNvPr id="516" name="Text Box 4"/>
          <p:cNvSpPr/>
          <p:nvPr/>
        </p:nvSpPr>
        <p:spPr>
          <a:xfrm>
            <a:off x="-52560" y="6245280"/>
            <a:ext cx="1152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© City of Pamplona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7" name="Text Box 5"/>
          <p:cNvSpPr/>
          <p:nvPr/>
        </p:nvSpPr>
        <p:spPr>
          <a:xfrm>
            <a:off x="4427640" y="4645080"/>
            <a:ext cx="439236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SzPct val="102890"/>
              <a:buBlip>
                <a:blip r:embed="rId5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Para valorizar a suas  ações monstrando </a:t>
            </a:r>
            <a:r>
              <a:rPr b="0" lang="es-ES" sz="3000" spc="-1" strike="noStrike">
                <a:solidFill>
                  <a:srgbClr val="254061"/>
                </a:solidFill>
                <a:latin typeface="Arial"/>
              </a:rPr>
              <a:t> cartazes atractivo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1" descr="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59800"/>
          </a:xfrm>
          <a:prstGeom prst="rect">
            <a:avLst/>
          </a:prstGeom>
          <a:ln w="0">
            <a:noFill/>
          </a:ln>
        </p:spPr>
      </p:pic>
      <p:sp>
        <p:nvSpPr>
          <p:cNvPr id="519" name="Text Box 2"/>
          <p:cNvSpPr/>
          <p:nvPr/>
        </p:nvSpPr>
        <p:spPr>
          <a:xfrm>
            <a:off x="0" y="6093000"/>
            <a:ext cx="9144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ww.citiesengage.eu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0" name="Text Box 3"/>
          <p:cNvSpPr/>
          <p:nvPr/>
        </p:nvSpPr>
        <p:spPr>
          <a:xfrm>
            <a:off x="0" y="260280"/>
            <a:ext cx="917748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Júnte-se a campanha europeia ENGAGE!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1" name="Text Box 4"/>
          <p:cNvSpPr/>
          <p:nvPr/>
        </p:nvSpPr>
        <p:spPr>
          <a:xfrm>
            <a:off x="-33480" y="4830840"/>
            <a:ext cx="9177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254061"/>
                </a:solidFill>
                <a:latin typeface="Arial"/>
              </a:rPr>
              <a:t>CONTATO – Ian Turner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254061"/>
                </a:solidFill>
                <a:latin typeface="Arial"/>
              </a:rPr>
              <a:t>www.energy-cities.eu/ian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254061"/>
                </a:solidFill>
                <a:latin typeface="Arial"/>
              </a:rPr>
              <a:t>+33 81 65 37 9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7T11:51:23Z</dcterms:created>
  <dc:creator>Rohan Guyot-Sutherland</dc:creator>
  <dc:description/>
  <dc:language>en-US</dc:language>
  <cp:lastModifiedBy> </cp:lastModifiedBy>
  <dcterms:modified xsi:type="dcterms:W3CDTF">2012-06-05T07:03:59Z</dcterms:modified>
  <cp:revision>148</cp:revision>
  <dc:subject/>
  <dc:title>Présentation PowerPoint</dc:title>
</cp:coreProperties>
</file>