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500CC-AA73-4546-A4FC-BE057944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45C3B-7BC6-4D20-A1CF-FAEDF90F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9D6E8-256E-4684-870B-E2187099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992E1-CCFE-4E59-BC57-736B24A9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A484D-0AA9-4CA4-9715-20D1A296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AA56B-0D1E-43B1-A7B5-5E45AFC8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6C772-A15D-4837-A225-4077F57A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FB68C-B9CF-4A15-AE8B-ED504A9A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031F8-0D44-4468-92DA-DC826ADD14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D4B71F-1B1F-480E-8C37-7928EFE446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5D9E65-8E42-407A-BE00-926DA764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E860E1-E19A-4055-B872-56C9CC8E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FE47D0-E5C4-4E02-B546-F61EC91D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7BC18E-7EF8-4B0B-B398-166C6CD8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BB5621-A789-40AB-9CDF-B5AEAFA3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4DB456-44D0-48BD-AC37-263CDA27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991A69-C25D-4865-8C34-A8F2AA5F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FE8EBB-5A19-4AEE-B91F-95F90810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F08E7E-F021-4CB0-A023-6EF7B0A1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580566-33F9-4F4C-9B0C-6F6BFE79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CDD9AD-F04B-4ABF-A31A-5E34425373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FB967-FF28-4154-AB50-28936E1A70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784FA-475C-493B-B3BD-F3691A62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557F3-931C-48EA-B1EE-CEB37BFC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DD4F2-03DC-4FC7-9577-209C42CA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C452D-44B2-4BED-AE19-7A44B6C6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0C216-C57F-4A74-9848-6BADA1C6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139F5-2F3B-4FC5-92A6-FCE3A569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5B084-2C73-41D3-B1B3-6A0661CE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E0593-43B8-4F67-9BB2-7B6F10B2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B0129-F273-4908-AA57-B71987ED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19CB6-C8C1-49B6-A43D-67DA5858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B06AA-19BC-44D3-8DEA-067AE87465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A309B-729F-4D5E-881C-B0874F0866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E81A0-FBAF-4278-917F-81343762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E80E3-275F-4BE7-9AE4-B3369A3D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DFB83-C6D4-4F1B-ADF0-4FBE6C55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FBBE0-D957-4CBA-B494-FC90A100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654BD-C348-4781-BA44-1D8C773C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34161-3119-4DD6-AA66-1B055813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48321-BC49-4D4A-836F-A2B6B7D7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424E8-D3E4-481F-81D9-D5D3B20D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FB575-A10B-4812-9CFE-C26CE1D5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543AA9-3F14-4401-AAF3-AA56AE4D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89482-E148-446E-AB11-93F5414381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1A9F-0361-42ED-92D4-F805C22D54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3357-EBB7-497F-8FFF-2ACE19B4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D67E-8143-43DD-BFC5-AE052F0C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9C2E-48FB-4A21-BA00-6450DBC9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4B53-5732-4BE3-AC64-7CD9B440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86F5-234E-497B-8477-8D35D6BA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371B2-5333-458D-A39B-09F07F1C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2441-7B0B-4EFF-85FD-3CB482E6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19D1-5B84-46D5-B14D-9E89FEAA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780D-976A-455A-B8BD-2D6FCEFB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EFDB-BE54-4004-9FCA-199701C6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188A-F783-4F3F-89FA-C43A25DC82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C4840-2B7F-4A22-BB5B-D2A38A8A52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12F12-8CF4-4830-AE73-F37D62B0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D4030-1EC0-413F-80F7-9796E5D7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269D8-0563-4123-BA8D-DEAA1F4B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38D46-7A96-4ECF-8025-B0E78672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45B1D-8636-458C-9940-7A41A976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F8F0D-A89F-4F1D-8DA1-68A3CB0C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0B7F8-FE6B-4797-A332-EAC9FE5B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9E8B2-15FE-4898-99B0-5184E04B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96452-1ED5-4A01-90E6-75A76F38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0311A-AE5E-4089-AD21-D38C85CA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AD062-CC74-486B-8524-89BC45AF4E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084B-0152-4E76-865A-52C478D1A2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DF50-DC4E-405B-86BA-BF307329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F2E3-6C17-474C-B606-87CA0192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B44B-6E7D-436E-AA4A-0014CCB4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C497-A905-460B-AAE4-7D2937F3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AEE4-038A-49C7-8788-8F09D309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850A-BA7C-400B-B0A8-91BE0B92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2B81-266F-4903-A434-EE17A9CA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6899-3DAF-4B83-8718-C581E7BC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A47A-3F9F-4882-A1DC-CC6965B2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1B11-4F49-4246-9B3C-AD011DE2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BB7D-8E86-418D-ABE3-7CFBCB9525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91379-1236-44F2-8A80-A53E019261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4B6B1-C208-4461-BBF2-344CF330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FBB63-8F5F-4CF5-9BB2-F0121E50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3292A-0C47-47BE-8C6A-1F59A551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A19C5-4F1F-4554-B4DD-DD069BEF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BD612-0C0F-4B17-8FFC-5FB2E061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65CDD-5E84-4913-8B83-40D27CBA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DB6E0-9E09-481A-8BA4-403825E4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857B1-0265-434E-83C7-D028EF12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E419F-0C59-41A7-BA3B-77989ECE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BC1D0-F99C-40B8-B62C-293F6E10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91F5E-B2FF-41E5-A89C-5DBBD95434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08AC1A-7D94-4FC6-8BD1-791535B6D2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82054-F8B1-4675-9DD2-F0BA9DBF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DB10B-E96B-469E-9F3C-3223C2F1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EB375B-6ACB-49A7-AAFC-F82B4914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0DE295-476D-4D35-8DF2-A9FC64A7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715DD-3D43-4DDD-B49A-E09174C1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FB46F7-F810-4302-A240-FCD7881C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98654E-4A1B-4D6E-AFF6-252A6994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33D941-44D3-4D2C-B76A-47BC43F3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5A46D-04E6-4E29-953D-9D9B4AA9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55567-4FF7-4AF3-97ED-1B3AC0D7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35A706-B1A9-4750-A6E8-EB0B3F88CD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EF53B-41BE-4DEC-85B4-77F88ECBA9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20934-228F-4F3F-861F-FE754F00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C3259-2D4E-400D-95A0-BA74D466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663B0-7385-4B80-8271-7D6F54E7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3F589-2A55-4A67-95E3-51C0C39C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07DF6-29A0-41DB-98D0-CD0E970A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E94A0-FC9A-42E6-83B4-655F2AC5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A35BB-E631-4CEA-9F0A-03F32877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6F990-84B4-453C-968A-E9C16510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8C09C-0A46-4412-8D0B-A557BA4C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AC232-7633-43AE-80E5-8185DB91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5B637-0078-4AC0-A52F-03ED0CE4BD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986B3-40B9-417D-890D-6FE70C0094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4EA3A-CC38-466E-82AB-F3565EC8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E6167-962F-4688-AA8B-7319D294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47239-C502-4262-BE6E-169A5761EC67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EAA25-E453-4217-BC98-E71BC4CA675E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D7CA7-685E-4848-881C-0564F3402899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1440" y="0"/>
            <a:ext cx="9158040" cy="6870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B898A-E933-4B67-82CC-206E97D0DA25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058A1-9628-45C4-990A-6BBF9A04DCDA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FA576-0317-4691-A6A5-7E4EEF9DE52B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B6780-A908-4F75-8C61-733F10BA114E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5C851-357A-4178-8800-AA2A65015892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5ADC3-8258-4185-91B0-53CC0DB5848E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C26BA-5B9E-47D5-9B85-20DE6A7E2579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/>
          <p:cNvSpPr/>
          <p:nvPr/>
        </p:nvSpPr>
        <p:spPr>
          <a:xfrm>
            <a:off x="179280" y="85680"/>
            <a:ext cx="2243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54061"/>
                </a:solidFill>
                <a:latin typeface="Arial"/>
              </a:rPr>
              <a:t>ENGA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0" y="692280"/>
            <a:ext cx="49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CIDADÃOS, INSTITUÇÕES, EMPRESAS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755640" y="4797360"/>
            <a:ext cx="83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1" lang="pt-PT" sz="1800" spc="-1" strike="noStrike">
                <a:solidFill>
                  <a:srgbClr val="254061"/>
                </a:solidFill>
                <a:latin typeface="Arial"/>
              </a:rPr>
              <a:t>E ALCANCE OS OBJETIVOS DO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254061"/>
                </a:solidFill>
                <a:latin typeface="Arial"/>
              </a:rPr>
              <a:t>PLANO CLIMA-ENERGÍ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254061"/>
                </a:solidFill>
                <a:latin typeface="Arial"/>
              </a:rPr>
              <a:t>DA SUA COLECTIVIDADE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5508720" y="83664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A CAMPANHA ENGAGE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457200" y="1125360"/>
            <a:ext cx="50482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Uma iniciativa de comunicação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articipativa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 implementada por cidades europeias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que convida todos os cidadãos e parceiros locais para eles assumirem o seu papel na construção de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um futuro energético sustentável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3"/>
          <a:stretch/>
        </p:blipFill>
        <p:spPr>
          <a:xfrm>
            <a:off x="5505480" y="1125360"/>
            <a:ext cx="3638520" cy="51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457200" y="-98280"/>
            <a:ext cx="78598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MOBILIZAR GRAÇAS A CARTAZES INOVADORES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457200" y="1052640"/>
            <a:ext cx="8435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Uma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ferramenta amigável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para crear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cartazes personalizados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que presentem compromissos sobre a energía sustentá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3851280" y="2637000"/>
            <a:ext cx="5292720" cy="37400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1714320" cy="2427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4"/>
          <a:stretch/>
        </p:blipFill>
        <p:spPr>
          <a:xfrm>
            <a:off x="2224080" y="3505320"/>
            <a:ext cx="1422360" cy="20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457200" y="11160"/>
            <a:ext cx="85788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POR QUE UNIR-SE A CAMPANHA ENGAG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457200" y="1417680"/>
            <a:ext cx="850752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Para envolver a </a:t>
            </a:r>
            <a:r>
              <a:rPr b="0" lang="es-ES" sz="2700" spc="-1" strike="noStrike">
                <a:solidFill>
                  <a:srgbClr val="254061"/>
                </a:solidFill>
                <a:latin typeface="Arial"/>
              </a:rPr>
              <a:t>sua autoridad local, os cidadãos y os actores locais na redução do seu consumo energético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Para contribuir  </a:t>
            </a:r>
            <a:r>
              <a:rPr b="0" lang="es-ES" sz="2700" spc="-1" strike="noStrike">
                <a:solidFill>
                  <a:srgbClr val="254061"/>
                </a:solidFill>
                <a:latin typeface="Arial"/>
              </a:rPr>
              <a:t>a atingir os objetivos “3x20” da  União europei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Para provar</a:t>
            </a:r>
            <a:r>
              <a:rPr b="0" lang="es-ES" sz="2700" spc="-1" strike="noStrike">
                <a:solidFill>
                  <a:srgbClr val="254061"/>
                </a:solidFill>
                <a:latin typeface="Arial"/>
              </a:rPr>
              <a:t> que as campañas participativas de comunicação  levan a poupanças energética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4"/>
          <a:stretch/>
        </p:blipFill>
        <p:spPr>
          <a:xfrm>
            <a:off x="0" y="4630680"/>
            <a:ext cx="4299120" cy="18129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-52560" y="62452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ity of Pamplona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4427640" y="4645080"/>
            <a:ext cx="4392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5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ara valorizar a suas  ações monstrando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 cartazes atractivo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1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2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0" y="260280"/>
            <a:ext cx="9177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Júnte-se a campanha europeia ENGAGE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-33480" y="4830840"/>
            <a:ext cx="91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CONTATO – Ian Turn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www.energy-cities.eu/ian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+33 81 65 37 9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1:51:23Z</dcterms:created>
  <dc:creator>Rohan Guyot-Sutherland</dc:creator>
  <dc:description/>
  <dc:language>en-US</dc:language>
  <cp:lastModifiedBy> </cp:lastModifiedBy>
  <dcterms:modified xsi:type="dcterms:W3CDTF">2012-06-05T07:03:59Z</dcterms:modified>
  <cp:revision>148</cp:revision>
  <dc:subject/>
  <dc:title>Présentation PowerPoint</dc:title>
</cp:coreProperties>
</file>